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dt" idx="3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 type="ftr" idx="3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 type="sldNum" idx="3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561C81-BD2B-4F44-AFA0-AF248E7D10D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굴림"/>
              </a:rPr>
              <a:t>G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In 2009 CCSSO and the Stupski Foundation shared a vision about the state of public education and where it needed to 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Four Slide Bui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085C1-28DB-4DE0-87D0-957A6C81D3B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Four Slide Bui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5D4D34-5C2C-4393-A0BA-CA9B319EB87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GERRITA’S LA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21CB50-8819-4872-8949-A3359C5CBB7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ko-KR" sz="1200" spc="-1" strike="noStrike">
              <a:solidFill>
                <a:srgbClr val="000000"/>
              </a:solidFill>
              <a:latin typeface="Calibri"/>
              <a:ea typeface="맑은 고딕"/>
            </a:endParaRPr>
          </a:p>
        </p:txBody>
      </p:sp>
      <p:sp>
        <p:nvSpPr>
          <p:cNvPr id="7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5AF919-0B89-4A23-BDC3-FE4561E1874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ko-KR" sz="1200" spc="-1" strike="noStrike">
              <a:solidFill>
                <a:srgbClr val="000000"/>
              </a:solidFill>
              <a:latin typeface="Calibri"/>
              <a:ea typeface="맑은 고딕"/>
            </a:endParaRPr>
          </a:p>
        </p:txBody>
      </p:sp>
      <p:sp>
        <p:nvSpPr>
          <p:cNvPr id="7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486785-594F-4A23-A0E9-8C67943DB93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FRIDAY: SESSION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NEL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2b: Nelson sets up Pan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35896F-6084-4282-ACBD-DB491496D6A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FRIDAY: SESSION TW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NELS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2b: Nelson sets up Pane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641BE9-80B1-48F7-B3C7-3949265D797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2a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8B1A62-2100-4499-8B4F-9548AF927B0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ko-KR" sz="1200" spc="-1" strike="noStrike">
              <a:solidFill>
                <a:srgbClr val="000000"/>
              </a:solidFill>
              <a:latin typeface="Calibri"/>
              <a:ea typeface="맑은 고딕"/>
            </a:endParaRPr>
          </a:p>
        </p:txBody>
      </p:sp>
      <p:sp>
        <p:nvSpPr>
          <p:cNvPr id="7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CB04CC-DB98-48E8-BDAF-196A11BD974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(DESCRIP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59D148-058D-44B5-9C72-36A9EC541D6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3B6C30-4244-476D-ADAD-73948AA46D1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(DESCRIP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24DB3DE-C52E-4347-A667-FB749AE36BD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(DESCRIP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CE0C10-8ED9-4682-BA7E-4E08AFE25A5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(DESCRIP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A6F0E0-F436-4BFF-80B1-A2500F859DD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2a Presen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C12803-49B1-4EDF-93D7-C57CF159681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ko-KR" sz="1200" spc="-1" strike="noStrike">
              <a:solidFill>
                <a:srgbClr val="000000"/>
              </a:solidFill>
              <a:latin typeface="Calibri"/>
              <a:ea typeface="맑은 고딕"/>
            </a:endParaRPr>
          </a:p>
        </p:txBody>
      </p:sp>
      <p:sp>
        <p:nvSpPr>
          <p:cNvPr id="8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946CE6-97D5-42CD-97CE-AEF63FD8837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Saturday Session 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NEL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3d the ILN RDD rapid testing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2: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0EDEEC-7E68-45BA-B4D4-FB822EE21C9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Saturday Session 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NEL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3d the ILN RDD rapid testing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D19474-6ECA-46E2-9FD4-F7A90D0AD85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Saturday Session 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NEL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3d the ILN RDD rapid testing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1FB71C-9DAB-4ED6-8968-118FF64E7B7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Saturday Session 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NEL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3d the ILN RDD rapid testing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32B619C-92FA-4588-AEED-86C4D8307D3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Saturday Session 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NELS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3d the ILN RDD rapid testing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2CE227-1F2E-4834-8C32-41C319C7B0A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ko-KR" sz="1200" spc="-1" strike="noStrike">
              <a:solidFill>
                <a:srgbClr val="000000"/>
              </a:solidFill>
              <a:latin typeface="Calibri"/>
              <a:ea typeface="맑은 고딕"/>
            </a:endParaRPr>
          </a:p>
        </p:txBody>
      </p:sp>
      <p:sp>
        <p:nvSpPr>
          <p:cNvPr id="8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C05628A-B6A7-43F1-9622-B6F60B6D0FE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ko-KR" sz="1200" spc="-1" strike="noStrike">
              <a:solidFill>
                <a:srgbClr val="000000"/>
              </a:solidFill>
              <a:latin typeface="Calibri"/>
              <a:ea typeface="맑은 고딕"/>
            </a:endParaRPr>
          </a:p>
        </p:txBody>
      </p:sp>
      <p:sp>
        <p:nvSpPr>
          <p:cNvPr id="7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16CE9B-89C0-4C84-8C26-0A79FC5423C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GERRITA THROUGH SLIDE 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B45880-68FA-412B-9303-5DB29F74200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Four Slide Bui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AB855A-87B7-45D1-A76D-F598081036D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Four Slide Bui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2F00C5-5FFF-4624-AFAC-64450884831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2001C-9CA3-4E75-A243-22FE70333A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D0547-87AB-4093-BBA9-D260718E45A4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A92FA6-E7BF-4B46-973E-D963D9385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87A638-5AEB-435E-BAD4-0C8BDCBE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837753-114B-4799-9368-AF309667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65952A-C649-4B99-AF6F-7B6B4CA4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758275-D6E6-4B6A-86F2-E7249F02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2DC67A-F344-4AD8-BFCE-D9E2D621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34FDF5-5AE9-4892-A1C0-F77BE124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64EE73-0055-4B62-8E82-D31AB8271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4E0558-CAAC-4141-A959-1CA495A3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04B2602-A254-40FF-8330-F62B2F655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92ADB-8492-4401-94BF-54AB9996A0D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42515E-455A-45B4-9D4C-32268984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EEEA20-7138-4659-BDC6-9186F1C4B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F5D8A65-E781-48B5-81F6-F0F279DB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6FAC835-BD2E-41B8-A786-23434FEE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52A8E0-F71E-426F-8CEA-9F0D9F114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6F9D74-C3F8-4DE8-901A-F4744952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214A24-9ADF-4E45-AB72-8303E5C9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D4F4944-765A-49D3-8684-5FFF32783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611CA3-D776-43A9-A940-DD0F6C335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2EB139-60A1-4695-9642-A81E2ED02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A15AC-A0C3-4FBB-AE8A-BD2EF0B8CC2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ACCA47-C983-40DA-A009-7F852D7E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615ADDE-5A51-4C22-936E-9C12CF569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D726112-5FB7-4E5A-A0A9-F7A8EF13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2009A6F-F423-46CA-BE1E-9004535C7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2EF80FC-4705-48C3-9295-03FF80F8F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DB606A8-123F-4FA8-B916-8A4B2B8B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F417147-297A-48DB-A8F0-BB2012A44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14C76CB-8003-4584-AE61-8FEEB771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6CB52E-3F5E-4096-B3A3-ED0DA9EE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1E26229-D2CF-47C8-847F-E1CCB3472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F451AA-BD9A-441F-B921-35B0992E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A5E3082E-AF5E-4B89-B593-E1E3B20AB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A109984-4954-4AE0-A25B-B9B5DE713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4A27715-71EB-4B83-B45E-9EE2D3A3F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D0032BE-44A9-4AE8-A788-604FA5894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ED2B6B-E90F-4E38-AC03-0D6376F29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888E6-04C1-4C5C-93EF-1EDC3DF1C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BEB435-00B4-46C1-A9C7-500D0D73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CF36A5D-32AD-4356-BD98-1446FCB41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F284B3-1854-47C2-B306-854E9BCB9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FF0B32-FEB2-4D32-BA6B-E90C8A952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68C0A-2714-4610-9107-2114A9291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6BFEDC-B40A-4FA0-A595-FB38A70A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3A01D1-EE0A-49BC-B4F6-CE6467AD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5A5441-60DB-4248-95D7-B7B5DAF6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176B59-A3A8-48F8-B99E-5654B231D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137FF55-8892-473C-984D-1A4F6439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91225F-6C88-4116-844F-4397DE18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4F0BC-98B4-49B5-BF97-B3BC336FE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A8C305-A8E5-4358-B4DF-FD325CC55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C09D6-DE26-4910-96C1-E4AF2CB88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296935-428B-433F-B323-D5FD7F18B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B664-0C98-46AE-93F2-B1A607299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344CC5-3DD9-49E9-8972-D4F58BD9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3669E-977D-4D43-88B7-7AA156AA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DA7FE-5DC9-4E97-ACB5-1DCAAEF8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E9BB6-5570-44F0-AC3B-0992565A8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996496-4B04-45E3-9997-F6433AB4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5135DD6-B5D9-4B7B-BB9F-C9C7FA17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1ACFE0-6E39-4917-AAB0-15A5F10F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5114B3-A634-49A3-AE3A-34B648589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886B8E-A945-45B2-AD8E-CB703B24B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07763C-5BA2-4B3C-8FB1-BD3ED617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CD527-B582-43D5-A1E8-BDA09E6C83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BECC9C-7EB3-4734-B1DD-1D084E8C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6C6821-D95A-4D1A-BDEA-0F869800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ED9BE2-713A-48DC-8200-D078CC63F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EEADEE-64B6-4BAE-9D17-EE120CB2D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7C8605-A2EB-48A5-837D-B6489ADF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3454BCD-6400-4E15-8D1D-F705B5043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117BE7-5309-4F0D-9609-52CE7EF34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D12927-2BC7-4966-BDF3-6FA5A38F3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0F3901-3B50-46DE-9BC9-5BB33305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2C5A9F-2403-4B4A-A050-CE8E58AE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F9BCF-4072-4E6F-B6F5-A4DE406A010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6279BE-9A27-4459-AEC4-06237449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48FE7D-7895-4626-B0B3-DAB88132A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8EE2746-F6FA-4C16-969E-F84DBD0DF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FF974B-A852-4BAF-8790-6F55F266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00E8AE-A9DF-4E58-B1F2-F5BD5794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B83069-72A6-4780-8A59-1D03AB192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BA26F4-7877-46F6-8F21-B52727A3D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8B8869-B907-4E00-965E-00899D1E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2903B31-660D-46EF-B71C-432692E87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9CBFF7-FE2F-4965-8BF9-7740AC9D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D8F8-4E6B-4001-BC5A-3B54DF4CED82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922A70F-80FD-4C63-88B3-02763A3D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4526754-737E-4ED4-A8A9-F545F45D5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18C235-5C87-43BF-808E-D24FEA93A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D09FC7-5D9F-41F3-BB1E-D2D00A141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479BA9-AB84-4AA5-B9E7-FEDDA048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A99500-347E-40CE-B888-10FACE27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C550C1A-163E-4B6E-BD2C-91FE4FA2E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B99C76-214F-43B4-BA6D-BCEADB151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F85296A-7C6D-41AB-A6DC-0A75C0010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B363F2-C19A-49B4-A84B-A2CC210D4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9473-15D3-4DBD-89B6-D3EED7F875B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50AF95-8E53-4695-B4AA-91D469EB8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4AF757-8441-442D-A9D7-56FFEE28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2C25596-0CAA-409D-BE90-3CF4F1F78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7D48FC-9A39-4915-91CF-7BD88247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070A26-1ACE-459F-89F5-2E0E4AF78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BB0C60D-8D95-4029-AD86-8A4F92E96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9A6E24-E421-46C3-8AC9-3F224C54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1F98EF-CD4E-4C79-AA4F-5C9361A5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E68B0B-FCB3-4623-AEF9-65736B67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656E50-51CB-4043-9F96-5B97D24E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9B8E9-A45C-4AE5-BE7B-2B0F95A657F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981174-49BE-445B-BB7D-C274D9B76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CFB2EA-1B54-42F0-8815-585A4A30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A074B9-C6B9-478E-821D-565641ED7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729B39F-3066-4E03-80BB-C996B763C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DAA29C-548B-4E47-9C78-EEED90269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388CD1-2A49-4C04-B3AF-672478721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FCC2F3-2F6C-4214-A2B2-6A5B4962C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7EC1C78-E64B-4E4F-A70E-DA83EDB3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9FC3A42-1306-44C6-9BFF-3AF2771E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C6C93E4-4ACD-43C4-89BC-1A6BFCCB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D42CF-659B-413A-A95D-61655FE7CA2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E4594D-C75A-41FC-B4D4-9E5BAF8AB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D82D56C-C3F3-478E-93A2-D6DEDE64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557E62F-0E4E-4AB3-ABAD-34DEB0C34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1C69E4-3449-449E-A2FC-484ACDBE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597FC42-9FB4-4930-83B7-249C4B379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2813BA-D7FA-4919-9A91-05C1F94F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EABC05A-A9F4-443A-98E3-07DC0C43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B39A8FE-4C3A-4608-8A0A-625D0912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13FEC1-4B58-43C8-A639-3BC2AD86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71E0452-0FBA-42C2-93E3-B8A5DB1F4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ACAFD-A5C8-4ECC-802E-0C37240CAB2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607EC1C-4FCD-4431-A110-CA834FF7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3F4536-49E9-43AD-8C3E-5A77B8C5A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38289F3-4AE8-49F5-9ADA-8CA67B73D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C917FC-E99F-4DA1-A5CA-3F287624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7983432-CC67-45B2-8717-DDC9D6FA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D9C8A0-8765-4822-9885-7B1B8B887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D9E23DC-8FF9-4DBE-9AD4-003BE86D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5DCBD-81BA-42D2-8E68-37012F21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46CA03-CCCD-4984-9B3D-99232C51B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F5624-DCE1-4C80-86CE-C7299F90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891BA-49D4-4E1B-859F-6FC7F10335CB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6"/>
          </p:nvPr>
        </p:nvSpPr>
        <p:spPr>
          <a:xfrm>
            <a:off x="456840" y="6356520"/>
            <a:ext cx="513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D1921D-DBAA-4676-847E-A19AB75BD0A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9"/>
          </p:nvPr>
        </p:nvSpPr>
        <p:spPr>
          <a:xfrm>
            <a:off x="456840" y="6356520"/>
            <a:ext cx="513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3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9B57C9-1D19-402E-992A-AB9FD43A24A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356520"/>
            <a:ext cx="513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1E7F56-9EAE-4904-A9FC-43800D31182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513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369CF5-76FA-47F9-BC9A-6BEFF343900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513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1E70D-86D8-4E47-A1EB-0777224C474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513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BEE41A-AAA3-42E6-BDD1-A1C7F75EBA5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513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7ED4C6-A7D0-4FF7-B527-A398E81BA33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56840" y="6356520"/>
            <a:ext cx="513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7D630C-773A-4C71-8336-94C021894C42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456840" y="6356520"/>
            <a:ext cx="513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A8C9816-84F2-46BC-A70A-DE53EDE14F4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56840" y="6356520"/>
            <a:ext cx="513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2F2418-E6C7-4E1D-B8F4-CAE1E4970551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456840" y="6356520"/>
            <a:ext cx="5133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000000"/>
                </a:solidFill>
                <a:latin typeface="Calibri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24F97B-D254-4D87-83CA-E64F57FEC5E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20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7" name="Group 8"/>
          <p:cNvGrpSpPr/>
          <p:nvPr/>
        </p:nvGrpSpPr>
        <p:grpSpPr>
          <a:xfrm>
            <a:off x="698400" y="3736800"/>
            <a:ext cx="3694320" cy="1911600"/>
            <a:chOff x="698400" y="3736800"/>
            <a:chExt cx="3694320" cy="1911600"/>
          </a:xfrm>
        </p:grpSpPr>
        <p:sp>
          <p:nvSpPr>
            <p:cNvPr id="498" name="Rounded Rectangle 4"/>
            <p:cNvSpPr/>
            <p:nvPr/>
          </p:nvSpPr>
          <p:spPr>
            <a:xfrm>
              <a:off x="698400" y="3736800"/>
              <a:ext cx="3634200" cy="1911600"/>
            </a:xfrm>
            <a:prstGeom prst="roundRect">
              <a:avLst>
                <a:gd name="adj" fmla="val 10144"/>
              </a:avLst>
            </a:prstGeom>
            <a:solidFill>
              <a:srgbClr val="ffffff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9" name="Picture 12" descr="Picture 2.png"/>
            <p:cNvPicPr/>
            <p:nvPr/>
          </p:nvPicPr>
          <p:blipFill>
            <a:blip r:embed="rId1"/>
            <a:stretch/>
          </p:blipFill>
          <p:spPr>
            <a:xfrm>
              <a:off x="757080" y="3736800"/>
              <a:ext cx="3635640" cy="187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0" name="Rounded Rectangle 10"/>
          <p:cNvSpPr/>
          <p:nvPr/>
        </p:nvSpPr>
        <p:spPr>
          <a:xfrm>
            <a:off x="4738680" y="3700440"/>
            <a:ext cx="3586320" cy="1911240"/>
          </a:xfrm>
          <a:prstGeom prst="roundRect">
            <a:avLst>
              <a:gd name="adj" fmla="val 10144"/>
            </a:avLst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Picture 8" descr="stupski_no_book_logo1.png"/>
          <p:cNvPicPr/>
          <p:nvPr/>
        </p:nvPicPr>
        <p:blipFill>
          <a:blip r:embed="rId2"/>
          <a:stretch/>
        </p:blipFill>
        <p:spPr>
          <a:xfrm>
            <a:off x="5049720" y="4183200"/>
            <a:ext cx="3086280" cy="102852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12" descr="PNxGL_Logo_white.jpg"/>
          <p:cNvPicPr/>
          <p:nvPr/>
        </p:nvPicPr>
        <p:blipFill>
          <a:blip r:embed="rId3"/>
          <a:stretch/>
        </p:blipFill>
        <p:spPr>
          <a:xfrm>
            <a:off x="1608120" y="963720"/>
            <a:ext cx="6053040" cy="195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9" descr="Sigmund_Curve_4.ai"/>
          <p:cNvPicPr/>
          <p:nvPr/>
        </p:nvPicPr>
        <p:blipFill>
          <a:blip r:embed="rId1"/>
          <a:stretch/>
        </p:blipFill>
        <p:spPr>
          <a:xfrm rot="21300000">
            <a:off x="-299520" y="6480"/>
            <a:ext cx="959328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TextBox 11"/>
          <p:cNvSpPr/>
          <p:nvPr/>
        </p:nvSpPr>
        <p:spPr>
          <a:xfrm>
            <a:off x="4572000" y="4848120"/>
            <a:ext cx="311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Develo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Commun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Of Pract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굴림"/>
              </a:rPr>
              <a:t>Nurtur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10" descr="Sigmund_Curve_5.ai"/>
          <p:cNvPicPr/>
          <p:nvPr/>
        </p:nvPicPr>
        <p:blipFill>
          <a:blip r:embed="rId1"/>
          <a:stretch/>
        </p:blipFill>
        <p:spPr>
          <a:xfrm rot="21300000">
            <a:off x="-293400" y="6480"/>
            <a:ext cx="9593280" cy="6858000"/>
          </a:xfrm>
          <a:prstGeom prst="rect">
            <a:avLst/>
          </a:prstGeom>
          <a:ln w="0">
            <a:noFill/>
          </a:ln>
        </p:spPr>
      </p:pic>
      <p:sp>
        <p:nvSpPr>
          <p:cNvPr id="546" name="TextBox 11"/>
          <p:cNvSpPr/>
          <p:nvPr/>
        </p:nvSpPr>
        <p:spPr>
          <a:xfrm>
            <a:off x="6299280" y="4740120"/>
            <a:ext cx="2638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Foster Systems of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Influe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굴림"/>
              </a:rPr>
              <a:t>Illuminat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525312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We must cultivate new experiences of next generation learn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2" descr=""/>
          <p:cNvPicPr/>
          <p:nvPr/>
        </p:nvPicPr>
        <p:blipFill>
          <a:blip r:embed="rId1"/>
          <a:stretch/>
        </p:blipFill>
        <p:spPr>
          <a:xfrm>
            <a:off x="4146480" y="1941480"/>
            <a:ext cx="4519800" cy="4653000"/>
          </a:xfrm>
          <a:prstGeom prst="rect">
            <a:avLst/>
          </a:prstGeom>
          <a:ln w="0">
            <a:noFill/>
          </a:ln>
        </p:spPr>
      </p:pic>
      <p:sp>
        <p:nvSpPr>
          <p:cNvPr id="550" name="Title 1"/>
          <p:cNvSpPr/>
          <p:nvPr/>
        </p:nvSpPr>
        <p:spPr>
          <a:xfrm>
            <a:off x="320760" y="3411360"/>
            <a:ext cx="4672080" cy="28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c8a41"/>
                </a:solidFill>
                <a:latin typeface="Arial"/>
                <a:ea typeface="굴림"/>
              </a:rPr>
              <a:t>Personalize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c8a41"/>
                </a:solidFill>
                <a:latin typeface="Arial"/>
                <a:ea typeface="굴림"/>
              </a:rPr>
              <a:t>World Class Learning/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c8a41"/>
                </a:solidFill>
                <a:latin typeface="Arial"/>
                <a:ea typeface="굴림"/>
              </a:rPr>
              <a:t>Authentic Student V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c8a41"/>
                </a:solidFill>
                <a:latin typeface="Arial"/>
                <a:ea typeface="굴림"/>
              </a:rPr>
              <a:t>Performance-based Learning Comprehensive System of Sup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ec8a41"/>
                </a:solidFill>
                <a:latin typeface="Arial"/>
                <a:ea typeface="굴림"/>
              </a:rPr>
              <a:t>Anytime, Anywhere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253120" cy="50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To do that we must change how the system supports learning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2" descr=""/>
          <p:cNvPicPr/>
          <p:nvPr/>
        </p:nvPicPr>
        <p:blipFill>
          <a:blip r:embed="rId1"/>
          <a:stretch/>
        </p:blipFill>
        <p:spPr>
          <a:xfrm>
            <a:off x="4098960" y="1666800"/>
            <a:ext cx="4519440" cy="4653000"/>
          </a:xfrm>
          <a:prstGeom prst="rect">
            <a:avLst/>
          </a:prstGeom>
          <a:ln w="0">
            <a:noFill/>
          </a:ln>
        </p:spPr>
      </p:pic>
      <p:sp>
        <p:nvSpPr>
          <p:cNvPr id="553" name="Title 1"/>
          <p:cNvSpPr/>
          <p:nvPr/>
        </p:nvSpPr>
        <p:spPr>
          <a:xfrm>
            <a:off x="428760" y="3597120"/>
            <a:ext cx="2327040" cy="28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4f7b"/>
                </a:solidFill>
                <a:latin typeface="Arial"/>
                <a:ea typeface="굴림"/>
              </a:rPr>
              <a:t>Human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4f7b"/>
                </a:solidFill>
                <a:latin typeface="Arial"/>
                <a:ea typeface="굴림"/>
              </a:rPr>
              <a:t>Time/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4f7b"/>
                </a:solidFill>
                <a:latin typeface="Arial"/>
                <a:ea typeface="굴림"/>
              </a:rPr>
              <a:t>Assess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4f7b"/>
                </a:solidFill>
                <a:latin typeface="Arial"/>
                <a:ea typeface="굴림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4f7b"/>
                </a:solidFill>
                <a:latin typeface="Arial"/>
                <a:ea typeface="굴림"/>
              </a:rPr>
              <a:t>Fi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4f7b"/>
                </a:solidFill>
                <a:latin typeface="Arial"/>
                <a:ea typeface="굴림"/>
              </a:rPr>
              <a:t>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264f7b"/>
                </a:solidFill>
                <a:latin typeface="Arial"/>
                <a:ea typeface="굴림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itle 1"/>
          <p:cNvSpPr/>
          <p:nvPr/>
        </p:nvSpPr>
        <p:spPr>
          <a:xfrm>
            <a:off x="2424240" y="3587760"/>
            <a:ext cx="3063600" cy="28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ec8a41"/>
                </a:solidFill>
                <a:latin typeface="Arial"/>
                <a:ea typeface="굴림"/>
              </a:rPr>
              <a:t>Personalized Lear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ec8a41"/>
                </a:solidFill>
                <a:latin typeface="Arial"/>
                <a:ea typeface="굴림"/>
              </a:rPr>
              <a:t>World Class Learning/Ski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ec8a41"/>
                </a:solidFill>
                <a:latin typeface="Arial"/>
                <a:ea typeface="굴림"/>
              </a:rPr>
              <a:t>Authentic Student V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ec8a41"/>
                </a:solidFill>
                <a:latin typeface="Arial"/>
                <a:ea typeface="굴림"/>
              </a:rPr>
              <a:t>Performance-based Learning </a:t>
            </a:r>
            <a:br>
              <a:rPr sz="1200"/>
            </a:br>
            <a:r>
              <a:rPr b="0" lang="en-US" sz="1200" spc="-1" strike="noStrike">
                <a:solidFill>
                  <a:srgbClr val="ec8a41"/>
                </a:solidFill>
                <a:latin typeface="Arial"/>
                <a:ea typeface="굴림"/>
              </a:rPr>
              <a:t>Comprehensive System of Suppor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ec8a41"/>
                </a:solidFill>
                <a:latin typeface="Arial"/>
                <a:ea typeface="굴림"/>
              </a:rPr>
              <a:t>Anytime, Anywhere Opportun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 txBox="1"/>
          <p:nvPr/>
        </p:nvSpPr>
        <p:spPr>
          <a:xfrm>
            <a:off x="301680" y="38736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Outcomes of the Net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Content Placeholder 2"/>
          <p:cNvSpPr/>
          <p:nvPr/>
        </p:nvSpPr>
        <p:spPr>
          <a:xfrm>
            <a:off x="1300320" y="5537160"/>
            <a:ext cx="18637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Proof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Content Placeholder 2"/>
          <p:cNvSpPr/>
          <p:nvPr/>
        </p:nvSpPr>
        <p:spPr>
          <a:xfrm>
            <a:off x="3789360" y="6191280"/>
            <a:ext cx="170496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Content Placeholder 2"/>
          <p:cNvSpPr/>
          <p:nvPr/>
        </p:nvSpPr>
        <p:spPr>
          <a:xfrm>
            <a:off x="6012000" y="5586480"/>
            <a:ext cx="170640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4" descr=""/>
          <p:cNvPicPr/>
          <p:nvPr/>
        </p:nvPicPr>
        <p:blipFill>
          <a:blip r:embed="rId1"/>
          <a:stretch/>
        </p:blipFill>
        <p:spPr>
          <a:xfrm>
            <a:off x="1181160" y="1300320"/>
            <a:ext cx="6383160" cy="48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rapezoid 6"/>
          <p:cNvSpPr/>
          <p:nvPr/>
        </p:nvSpPr>
        <p:spPr>
          <a:xfrm rot="15925800">
            <a:off x="1566000" y="-2254680"/>
            <a:ext cx="6850080" cy="8105760"/>
          </a:xfrm>
          <a:custGeom>
            <a:avLst/>
            <a:gdLst/>
            <a:ahLst/>
            <a:rect l="l" t="t" r="r" b="b"/>
            <a:pathLst>
              <a:path w="6850063" h="8105775">
                <a:moveTo>
                  <a:pt x="0" y="8105775"/>
                </a:moveTo>
                <a:lnTo>
                  <a:pt x="2993341" y="0"/>
                </a:lnTo>
                <a:lnTo>
                  <a:pt x="3856722" y="0"/>
                </a:lnTo>
                <a:lnTo>
                  <a:pt x="6850063" y="8105775"/>
                </a:lnTo>
                <a:lnTo>
                  <a:pt x="0" y="81057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rapezoid 4"/>
          <p:cNvSpPr/>
          <p:nvPr/>
        </p:nvSpPr>
        <p:spPr>
          <a:xfrm rot="18345600">
            <a:off x="1495080" y="-561960"/>
            <a:ext cx="6850080" cy="9799920"/>
          </a:xfrm>
          <a:custGeom>
            <a:avLst/>
            <a:gdLst/>
            <a:ahLst/>
            <a:rect l="l" t="t" r="r" b="b"/>
            <a:pathLst>
              <a:path w="6850062" h="9799637">
                <a:moveTo>
                  <a:pt x="0" y="9799637"/>
                </a:moveTo>
                <a:lnTo>
                  <a:pt x="2993340" y="0"/>
                </a:lnTo>
                <a:lnTo>
                  <a:pt x="3856722" y="0"/>
                </a:lnTo>
                <a:lnTo>
                  <a:pt x="6850062" y="9799637"/>
                </a:lnTo>
                <a:lnTo>
                  <a:pt x="0" y="9799637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Picture 3" descr=""/>
          <p:cNvPicPr/>
          <p:nvPr/>
        </p:nvPicPr>
        <p:blipFill>
          <a:blip r:embed="rId1"/>
          <a:stretch/>
        </p:blipFill>
        <p:spPr>
          <a:xfrm>
            <a:off x="2462040" y="347760"/>
            <a:ext cx="6197760" cy="613080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" descr=""/>
          <p:cNvPicPr/>
          <p:nvPr/>
        </p:nvPicPr>
        <p:blipFill>
          <a:blip r:embed="rId2"/>
          <a:stretch/>
        </p:blipFill>
        <p:spPr>
          <a:xfrm>
            <a:off x="484200" y="347760"/>
            <a:ext cx="1789200" cy="1842840"/>
          </a:xfrm>
          <a:prstGeom prst="rect">
            <a:avLst/>
          </a:prstGeom>
          <a:ln w="0">
            <a:noFill/>
          </a:ln>
        </p:spPr>
      </p:pic>
      <p:sp>
        <p:nvSpPr>
          <p:cNvPr id="564" name="Oval 7"/>
          <p:cNvSpPr/>
          <p:nvPr/>
        </p:nvSpPr>
        <p:spPr>
          <a:xfrm>
            <a:off x="4384800" y="2131920"/>
            <a:ext cx="2363760" cy="2362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ight Arrow 8"/>
          <p:cNvSpPr/>
          <p:nvPr/>
        </p:nvSpPr>
        <p:spPr>
          <a:xfrm rot="6902400">
            <a:off x="5753520" y="1329120"/>
            <a:ext cx="1359000" cy="376200"/>
          </a:xfrm>
          <a:prstGeom prst="rightArrow">
            <a:avLst>
              <a:gd name="adj1" fmla="val 56713"/>
              <a:gd name="adj2" fmla="val 31325"/>
            </a:avLst>
          </a:prstGeom>
          <a:solidFill>
            <a:srgbClr val="5c6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ight Arrow 9"/>
          <p:cNvSpPr/>
          <p:nvPr/>
        </p:nvSpPr>
        <p:spPr>
          <a:xfrm rot="777000">
            <a:off x="3341520" y="2733480"/>
            <a:ext cx="938520" cy="377640"/>
          </a:xfrm>
          <a:prstGeom prst="rightArrow">
            <a:avLst>
              <a:gd name="adj1" fmla="val 56713"/>
              <a:gd name="adj2" fmla="val 31353"/>
            </a:avLst>
          </a:prstGeom>
          <a:solidFill>
            <a:srgbClr val="5c6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ight Arrow 10"/>
          <p:cNvSpPr/>
          <p:nvPr/>
        </p:nvSpPr>
        <p:spPr>
          <a:xfrm rot="16200000">
            <a:off x="4874400" y="5124960"/>
            <a:ext cx="1359000" cy="376200"/>
          </a:xfrm>
          <a:prstGeom prst="rightArrow">
            <a:avLst>
              <a:gd name="adj1" fmla="val 56713"/>
              <a:gd name="adj2" fmla="val 31325"/>
            </a:avLst>
          </a:prstGeom>
          <a:solidFill>
            <a:srgbClr val="5c6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68200" y="4222440"/>
            <a:ext cx="5253120" cy="252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We will start i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places that have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the most impac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2"/>
          <p:cNvSpPr/>
          <p:nvPr/>
        </p:nvSpPr>
        <p:spPr>
          <a:xfrm rot="18651000">
            <a:off x="2406600" y="2491560"/>
            <a:ext cx="13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Gover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3"/>
          <p:cNvSpPr/>
          <p:nvPr/>
        </p:nvSpPr>
        <p:spPr>
          <a:xfrm rot="20313000">
            <a:off x="3877560" y="698040"/>
            <a:ext cx="13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4"/>
          <p:cNvSpPr/>
          <p:nvPr/>
        </p:nvSpPr>
        <p:spPr>
          <a:xfrm rot="1879800">
            <a:off x="6361560" y="701640"/>
            <a:ext cx="81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Human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15"/>
          <p:cNvSpPr/>
          <p:nvPr/>
        </p:nvSpPr>
        <p:spPr>
          <a:xfrm rot="2880000">
            <a:off x="7585560" y="2725200"/>
            <a:ext cx="13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16"/>
          <p:cNvSpPr/>
          <p:nvPr/>
        </p:nvSpPr>
        <p:spPr>
          <a:xfrm rot="18651000">
            <a:off x="7131240" y="4630320"/>
            <a:ext cx="13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17"/>
          <p:cNvSpPr/>
          <p:nvPr/>
        </p:nvSpPr>
        <p:spPr>
          <a:xfrm rot="537000">
            <a:off x="5013000" y="5837400"/>
            <a:ext cx="134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굴림"/>
              </a:rPr>
              <a:t>Assess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8"/>
          <p:cNvSpPr/>
          <p:nvPr/>
        </p:nvSpPr>
        <p:spPr>
          <a:xfrm rot="2113800">
            <a:off x="2965320" y="4927680"/>
            <a:ext cx="13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Time /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rapezoid 6"/>
          <p:cNvSpPr/>
          <p:nvPr/>
        </p:nvSpPr>
        <p:spPr>
          <a:xfrm rot="15925800">
            <a:off x="1836720" y="-2255400"/>
            <a:ext cx="6850080" cy="8107200"/>
          </a:xfrm>
          <a:custGeom>
            <a:avLst/>
            <a:gdLst/>
            <a:ahLst/>
            <a:rect l="l" t="t" r="r" b="b"/>
            <a:pathLst>
              <a:path w="6850063" h="8107362">
                <a:moveTo>
                  <a:pt x="0" y="8107362"/>
                </a:moveTo>
                <a:lnTo>
                  <a:pt x="2993341" y="0"/>
                </a:lnTo>
                <a:lnTo>
                  <a:pt x="3856722" y="0"/>
                </a:lnTo>
                <a:lnTo>
                  <a:pt x="6850063" y="8107362"/>
                </a:lnTo>
                <a:lnTo>
                  <a:pt x="0" y="8107362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rapezoid 4"/>
          <p:cNvSpPr/>
          <p:nvPr/>
        </p:nvSpPr>
        <p:spPr>
          <a:xfrm rot="18345600">
            <a:off x="1495080" y="-561960"/>
            <a:ext cx="6850080" cy="9799920"/>
          </a:xfrm>
          <a:custGeom>
            <a:avLst/>
            <a:gdLst/>
            <a:ahLst/>
            <a:rect l="l" t="t" r="r" b="b"/>
            <a:pathLst>
              <a:path w="6850062" h="9799637">
                <a:moveTo>
                  <a:pt x="0" y="9799637"/>
                </a:moveTo>
                <a:lnTo>
                  <a:pt x="2993340" y="0"/>
                </a:lnTo>
                <a:lnTo>
                  <a:pt x="3856722" y="0"/>
                </a:lnTo>
                <a:lnTo>
                  <a:pt x="6850062" y="9799637"/>
                </a:lnTo>
                <a:lnTo>
                  <a:pt x="0" y="9799637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2462040" y="347760"/>
            <a:ext cx="6197760" cy="613080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2" descr=""/>
          <p:cNvPicPr/>
          <p:nvPr/>
        </p:nvPicPr>
        <p:blipFill>
          <a:blip r:embed="rId2"/>
          <a:stretch/>
        </p:blipFill>
        <p:spPr>
          <a:xfrm>
            <a:off x="484200" y="347760"/>
            <a:ext cx="1789200" cy="184284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318960" y="4242960"/>
            <a:ext cx="5251680" cy="25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These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are critical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Entry Poi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ight Arrow 9"/>
          <p:cNvSpPr/>
          <p:nvPr/>
        </p:nvSpPr>
        <p:spPr>
          <a:xfrm rot="14709000">
            <a:off x="4383720" y="1578240"/>
            <a:ext cx="863280" cy="376200"/>
          </a:xfrm>
          <a:prstGeom prst="rightArrow">
            <a:avLst>
              <a:gd name="adj1" fmla="val 56713"/>
              <a:gd name="adj2" fmla="val 31319"/>
            </a:avLst>
          </a:prstGeom>
          <a:solidFill>
            <a:srgbClr val="5c6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ight Arrow 11"/>
          <p:cNvSpPr/>
          <p:nvPr/>
        </p:nvSpPr>
        <p:spPr>
          <a:xfrm rot="8503800">
            <a:off x="3819600" y="4231800"/>
            <a:ext cx="860400" cy="376200"/>
          </a:xfrm>
          <a:prstGeom prst="rightArrow">
            <a:avLst>
              <a:gd name="adj1" fmla="val 56713"/>
              <a:gd name="adj2" fmla="val 31331"/>
            </a:avLst>
          </a:prstGeom>
          <a:solidFill>
            <a:srgbClr val="5c6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ight Arrow 12"/>
          <p:cNvSpPr/>
          <p:nvPr/>
        </p:nvSpPr>
        <p:spPr>
          <a:xfrm rot="2358000">
            <a:off x="6473880" y="4198680"/>
            <a:ext cx="860400" cy="376200"/>
          </a:xfrm>
          <a:prstGeom prst="rightArrow">
            <a:avLst>
              <a:gd name="adj1" fmla="val 56713"/>
              <a:gd name="adj2" fmla="val 31331"/>
            </a:avLst>
          </a:prstGeom>
          <a:solidFill>
            <a:srgbClr val="5c6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ight Arrow 13"/>
          <p:cNvSpPr/>
          <p:nvPr/>
        </p:nvSpPr>
        <p:spPr>
          <a:xfrm rot="20700000">
            <a:off x="6791400" y="2759040"/>
            <a:ext cx="861840" cy="376200"/>
          </a:xfrm>
          <a:prstGeom prst="rightArrow">
            <a:avLst>
              <a:gd name="adj1" fmla="val 56713"/>
              <a:gd name="adj2" fmla="val 31320"/>
            </a:avLst>
          </a:prstGeom>
          <a:solidFill>
            <a:srgbClr val="5c67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0"/>
          <p:cNvSpPr/>
          <p:nvPr/>
        </p:nvSpPr>
        <p:spPr>
          <a:xfrm rot="18651000">
            <a:off x="2406600" y="2491560"/>
            <a:ext cx="13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Gover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4"/>
          <p:cNvSpPr/>
          <p:nvPr/>
        </p:nvSpPr>
        <p:spPr>
          <a:xfrm rot="20313000">
            <a:off x="3877560" y="698040"/>
            <a:ext cx="134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Box 15"/>
          <p:cNvSpPr/>
          <p:nvPr/>
        </p:nvSpPr>
        <p:spPr>
          <a:xfrm rot="1879800">
            <a:off x="6361560" y="701640"/>
            <a:ext cx="81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Human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6"/>
          <p:cNvSpPr/>
          <p:nvPr/>
        </p:nvSpPr>
        <p:spPr>
          <a:xfrm rot="2880000">
            <a:off x="7585560" y="2725200"/>
            <a:ext cx="13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17"/>
          <p:cNvSpPr/>
          <p:nvPr/>
        </p:nvSpPr>
        <p:spPr>
          <a:xfrm rot="18651000">
            <a:off x="7131240" y="4630320"/>
            <a:ext cx="13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Fin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18"/>
          <p:cNvSpPr/>
          <p:nvPr/>
        </p:nvSpPr>
        <p:spPr>
          <a:xfrm rot="537000">
            <a:off x="5013000" y="5837400"/>
            <a:ext cx="13460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굴림"/>
              </a:rPr>
              <a:t>Assess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19"/>
          <p:cNvSpPr/>
          <p:nvPr/>
        </p:nvSpPr>
        <p:spPr>
          <a:xfrm rot="2113800">
            <a:off x="2965320" y="4927680"/>
            <a:ext cx="134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Time /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20"/>
          <p:cNvSpPr/>
          <p:nvPr/>
        </p:nvSpPr>
        <p:spPr>
          <a:xfrm>
            <a:off x="4888080" y="2513160"/>
            <a:ext cx="1334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굴림"/>
              </a:rPr>
              <a:t>NxG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굴림"/>
              </a:rPr>
              <a:t>Diagnost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21"/>
          <p:cNvSpPr/>
          <p:nvPr/>
        </p:nvSpPr>
        <p:spPr>
          <a:xfrm>
            <a:off x="5389560" y="3346560"/>
            <a:ext cx="1335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굴림"/>
              </a:rPr>
              <a:t>Educa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굴림"/>
              </a:rPr>
              <a:t>Capac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22"/>
          <p:cNvSpPr/>
          <p:nvPr/>
        </p:nvSpPr>
        <p:spPr>
          <a:xfrm>
            <a:off x="4390920" y="3346560"/>
            <a:ext cx="1335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굴림"/>
              </a:rPr>
              <a:t>NxG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굴림"/>
              </a:rPr>
              <a:t>Assess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6" name="Picture 2" descr=""/>
          <p:cNvPicPr/>
          <p:nvPr/>
        </p:nvPicPr>
        <p:blipFill>
          <a:blip r:embed="rId1"/>
          <a:stretch/>
        </p:blipFill>
        <p:spPr>
          <a:xfrm>
            <a:off x="1639800" y="396720"/>
            <a:ext cx="5713560" cy="5753160"/>
          </a:xfrm>
          <a:prstGeom prst="rect">
            <a:avLst/>
          </a:prstGeom>
          <a:ln w="0">
            <a:noFill/>
          </a:ln>
        </p:spPr>
      </p:pic>
      <p:sp>
        <p:nvSpPr>
          <p:cNvPr id="597" name="TextBox 13"/>
          <p:cNvSpPr/>
          <p:nvPr/>
        </p:nvSpPr>
        <p:spPr>
          <a:xfrm>
            <a:off x="1639800" y="4040280"/>
            <a:ext cx="28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굴림"/>
              </a:rPr>
              <a:t>NxGL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굴림"/>
              </a:rPr>
              <a:t>ASSESS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14"/>
          <p:cNvSpPr/>
          <p:nvPr/>
        </p:nvSpPr>
        <p:spPr>
          <a:xfrm>
            <a:off x="3111480" y="1565280"/>
            <a:ext cx="283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굴림"/>
              </a:rPr>
              <a:t>NxG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굴림"/>
              </a:rPr>
              <a:t>DIAGNOST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15"/>
          <p:cNvSpPr/>
          <p:nvPr/>
        </p:nvSpPr>
        <p:spPr>
          <a:xfrm>
            <a:off x="4619520" y="4040280"/>
            <a:ext cx="273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굴림"/>
              </a:rPr>
              <a:t>EDUCA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굴림"/>
              </a:rPr>
              <a:t>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rapezoid 25"/>
          <p:cNvSpPr/>
          <p:nvPr/>
        </p:nvSpPr>
        <p:spPr>
          <a:xfrm rot="15925800">
            <a:off x="2255040" y="-1777320"/>
            <a:ext cx="6848280" cy="8107200"/>
          </a:xfrm>
          <a:custGeom>
            <a:avLst/>
            <a:gdLst/>
            <a:ahLst/>
            <a:rect l="l" t="t" r="r" b="b"/>
            <a:pathLst>
              <a:path w="6848476" h="8107363">
                <a:moveTo>
                  <a:pt x="0" y="8107363"/>
                </a:moveTo>
                <a:lnTo>
                  <a:pt x="2992647" y="0"/>
                </a:lnTo>
                <a:lnTo>
                  <a:pt x="3855829" y="0"/>
                </a:lnTo>
                <a:lnTo>
                  <a:pt x="6848476" y="8107363"/>
                </a:lnTo>
                <a:lnTo>
                  <a:pt x="0" y="8107363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rapezoid 26"/>
          <p:cNvSpPr/>
          <p:nvPr/>
        </p:nvSpPr>
        <p:spPr>
          <a:xfrm rot="18345600">
            <a:off x="1907280" y="189360"/>
            <a:ext cx="6850080" cy="9642600"/>
          </a:xfrm>
          <a:custGeom>
            <a:avLst/>
            <a:gdLst/>
            <a:ahLst/>
            <a:rect l="l" t="t" r="r" b="b"/>
            <a:pathLst>
              <a:path w="6850062" h="9642475">
                <a:moveTo>
                  <a:pt x="0" y="9642475"/>
                </a:moveTo>
                <a:lnTo>
                  <a:pt x="2993340" y="0"/>
                </a:lnTo>
                <a:lnTo>
                  <a:pt x="3856722" y="0"/>
                </a:lnTo>
                <a:lnTo>
                  <a:pt x="6850062" y="9642475"/>
                </a:lnTo>
                <a:lnTo>
                  <a:pt x="0" y="9642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2" descr=""/>
          <p:cNvPicPr/>
          <p:nvPr/>
        </p:nvPicPr>
        <p:blipFill>
          <a:blip r:embed="rId1"/>
          <a:stretch/>
        </p:blipFill>
        <p:spPr>
          <a:xfrm>
            <a:off x="390600" y="1392120"/>
            <a:ext cx="2546280" cy="2563920"/>
          </a:xfrm>
          <a:prstGeom prst="rect">
            <a:avLst/>
          </a:prstGeom>
          <a:ln w="0">
            <a:noFill/>
          </a:ln>
        </p:spPr>
      </p:pic>
      <p:sp>
        <p:nvSpPr>
          <p:cNvPr id="603" name="Hexagon 23"/>
          <p:cNvSpPr/>
          <p:nvPr/>
        </p:nvSpPr>
        <p:spPr>
          <a:xfrm rot="19767600">
            <a:off x="284040" y="2610000"/>
            <a:ext cx="1440000" cy="1249200"/>
          </a:xfrm>
          <a:prstGeom prst="hexagon">
            <a:avLst>
              <a:gd name="adj" fmla="val 28023"/>
              <a:gd name="vf" fmla="val 115470"/>
            </a:avLst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Hexagon 24"/>
          <p:cNvSpPr/>
          <p:nvPr/>
        </p:nvSpPr>
        <p:spPr>
          <a:xfrm rot="19767600">
            <a:off x="1593720" y="2610000"/>
            <a:ext cx="1440000" cy="1249200"/>
          </a:xfrm>
          <a:prstGeom prst="hexagon">
            <a:avLst>
              <a:gd name="adj" fmla="val 28023"/>
              <a:gd name="vf" fmla="val 115470"/>
            </a:avLst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8"/>
          <p:cNvSpPr/>
          <p:nvPr/>
        </p:nvSpPr>
        <p:spPr>
          <a:xfrm>
            <a:off x="3886200" y="1442880"/>
            <a:ext cx="52671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Provide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indicator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 that focus on Next Generation student needs.  Complex performance and engaged learning setting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Demonstrate the assessment of the kinds of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complex student performanc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 all students can achie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Give leaders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analytic capacity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required to measure prog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9"/>
          <p:cNvSpPr/>
          <p:nvPr/>
        </p:nvSpPr>
        <p:spPr>
          <a:xfrm>
            <a:off x="369720" y="399960"/>
            <a:ext cx="815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NxGL Diagnost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4"/>
          <p:cNvSpPr/>
          <p:nvPr/>
        </p:nvSpPr>
        <p:spPr>
          <a:xfrm>
            <a:off x="282600" y="2982960"/>
            <a:ext cx="14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NXG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5"/>
          <p:cNvSpPr/>
          <p:nvPr/>
        </p:nvSpPr>
        <p:spPr>
          <a:xfrm>
            <a:off x="1038240" y="1884240"/>
            <a:ext cx="12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NXG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6"/>
          <p:cNvSpPr/>
          <p:nvPr/>
        </p:nvSpPr>
        <p:spPr>
          <a:xfrm>
            <a:off x="1671480" y="3016080"/>
            <a:ext cx="12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EDU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Trapezoid 31"/>
          <p:cNvSpPr/>
          <p:nvPr/>
        </p:nvSpPr>
        <p:spPr>
          <a:xfrm rot="15925800">
            <a:off x="2255040" y="-1777320"/>
            <a:ext cx="6848280" cy="8107200"/>
          </a:xfrm>
          <a:custGeom>
            <a:avLst/>
            <a:gdLst/>
            <a:ahLst/>
            <a:rect l="l" t="t" r="r" b="b"/>
            <a:pathLst>
              <a:path w="6848476" h="8107363">
                <a:moveTo>
                  <a:pt x="0" y="8107363"/>
                </a:moveTo>
                <a:lnTo>
                  <a:pt x="2992647" y="0"/>
                </a:lnTo>
                <a:lnTo>
                  <a:pt x="3855829" y="0"/>
                </a:lnTo>
                <a:lnTo>
                  <a:pt x="6848476" y="8107363"/>
                </a:lnTo>
                <a:lnTo>
                  <a:pt x="0" y="8107363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rapezoid 32"/>
          <p:cNvSpPr/>
          <p:nvPr/>
        </p:nvSpPr>
        <p:spPr>
          <a:xfrm rot="18345600">
            <a:off x="1907280" y="189360"/>
            <a:ext cx="6850080" cy="9642600"/>
          </a:xfrm>
          <a:custGeom>
            <a:avLst/>
            <a:gdLst/>
            <a:ahLst/>
            <a:rect l="l" t="t" r="r" b="b"/>
            <a:pathLst>
              <a:path w="6850062" h="9642475">
                <a:moveTo>
                  <a:pt x="0" y="9642475"/>
                </a:moveTo>
                <a:lnTo>
                  <a:pt x="2993340" y="0"/>
                </a:lnTo>
                <a:lnTo>
                  <a:pt x="3856722" y="0"/>
                </a:lnTo>
                <a:lnTo>
                  <a:pt x="6850062" y="9642475"/>
                </a:lnTo>
                <a:lnTo>
                  <a:pt x="0" y="9642475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17"/>
          <p:cNvSpPr/>
          <p:nvPr/>
        </p:nvSpPr>
        <p:spPr>
          <a:xfrm>
            <a:off x="6183360" y="4356000"/>
            <a:ext cx="2755800" cy="2502000"/>
          </a:xfrm>
          <a:prstGeom prst="rect">
            <a:avLst/>
          </a:prstGeom>
          <a:solidFill>
            <a:srgbClr val="ec8a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Rectangle 16"/>
          <p:cNvSpPr/>
          <p:nvPr/>
        </p:nvSpPr>
        <p:spPr>
          <a:xfrm>
            <a:off x="3149640" y="4356000"/>
            <a:ext cx="2946240" cy="2502000"/>
          </a:xfrm>
          <a:prstGeom prst="rect">
            <a:avLst/>
          </a:prstGeom>
          <a:solidFill>
            <a:srgbClr val="ec8a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15"/>
          <p:cNvSpPr/>
          <p:nvPr/>
        </p:nvSpPr>
        <p:spPr>
          <a:xfrm>
            <a:off x="217440" y="4356000"/>
            <a:ext cx="2847960" cy="2502000"/>
          </a:xfrm>
          <a:prstGeom prst="rect">
            <a:avLst/>
          </a:prstGeom>
          <a:solidFill>
            <a:srgbClr val="ec8a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9"/>
          <p:cNvSpPr/>
          <p:nvPr/>
        </p:nvSpPr>
        <p:spPr>
          <a:xfrm>
            <a:off x="369720" y="399960"/>
            <a:ext cx="877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NxGL Diagnostics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10"/>
          <p:cNvSpPr/>
          <p:nvPr/>
        </p:nvSpPr>
        <p:spPr>
          <a:xfrm>
            <a:off x="401760" y="4740120"/>
            <a:ext cx="248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Effective measures of core knowledge and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12"/>
          <p:cNvSpPr/>
          <p:nvPr/>
        </p:nvSpPr>
        <p:spPr>
          <a:xfrm>
            <a:off x="3494160" y="4730760"/>
            <a:ext cx="230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Indicators of higher order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3"/>
          <p:cNvSpPr/>
          <p:nvPr/>
        </p:nvSpPr>
        <p:spPr>
          <a:xfrm>
            <a:off x="6485040" y="4730760"/>
            <a:ext cx="2549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Effective measures of genuine and persistent eng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390600" y="1392120"/>
            <a:ext cx="2546280" cy="2563920"/>
          </a:xfrm>
          <a:prstGeom prst="rect">
            <a:avLst/>
          </a:prstGeom>
          <a:ln w="0">
            <a:noFill/>
          </a:ln>
        </p:spPr>
      </p:pic>
      <p:sp>
        <p:nvSpPr>
          <p:cNvPr id="620" name="Hexagon 19"/>
          <p:cNvSpPr/>
          <p:nvPr/>
        </p:nvSpPr>
        <p:spPr>
          <a:xfrm rot="19767600">
            <a:off x="284040" y="2610000"/>
            <a:ext cx="1440000" cy="1249200"/>
          </a:xfrm>
          <a:prstGeom prst="hexagon">
            <a:avLst>
              <a:gd name="adj" fmla="val 28023"/>
              <a:gd name="vf" fmla="val 115470"/>
            </a:avLst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Hexagon 20"/>
          <p:cNvSpPr/>
          <p:nvPr/>
        </p:nvSpPr>
        <p:spPr>
          <a:xfrm rot="19767600">
            <a:off x="1593720" y="2610000"/>
            <a:ext cx="1440000" cy="1249200"/>
          </a:xfrm>
          <a:prstGeom prst="hexagon">
            <a:avLst>
              <a:gd name="adj" fmla="val 28023"/>
              <a:gd name="vf" fmla="val 115470"/>
            </a:avLst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22"/>
          <p:cNvSpPr/>
          <p:nvPr/>
        </p:nvSpPr>
        <p:spPr>
          <a:xfrm>
            <a:off x="1038240" y="1884240"/>
            <a:ext cx="12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NXG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25"/>
          <p:cNvSpPr/>
          <p:nvPr/>
        </p:nvSpPr>
        <p:spPr>
          <a:xfrm>
            <a:off x="1671480" y="3016080"/>
            <a:ext cx="12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EDU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Box 28"/>
          <p:cNvSpPr/>
          <p:nvPr/>
        </p:nvSpPr>
        <p:spPr>
          <a:xfrm>
            <a:off x="434880" y="4495680"/>
            <a:ext cx="126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TextBox 29"/>
          <p:cNvSpPr/>
          <p:nvPr/>
        </p:nvSpPr>
        <p:spPr>
          <a:xfrm>
            <a:off x="3513240" y="4495680"/>
            <a:ext cx="126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30"/>
          <p:cNvSpPr/>
          <p:nvPr/>
        </p:nvSpPr>
        <p:spPr>
          <a:xfrm>
            <a:off x="6513480" y="4495680"/>
            <a:ext cx="126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23"/>
          <p:cNvSpPr/>
          <p:nvPr/>
        </p:nvSpPr>
        <p:spPr>
          <a:xfrm>
            <a:off x="282600" y="2982960"/>
            <a:ext cx="14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NXG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1"/>
          <p:cNvSpPr/>
          <p:nvPr/>
        </p:nvSpPr>
        <p:spPr>
          <a:xfrm>
            <a:off x="0" y="5478480"/>
            <a:ext cx="9144000" cy="9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6"/>
          <p:cNvSpPr/>
          <p:nvPr/>
        </p:nvSpPr>
        <p:spPr>
          <a:xfrm>
            <a:off x="426960" y="368280"/>
            <a:ext cx="7493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Typical R&amp;D Investments in Innovating Se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9"/>
          <p:cNvSpPr/>
          <p:nvPr/>
        </p:nvSpPr>
        <p:spPr>
          <a:xfrm>
            <a:off x="426960" y="2065320"/>
            <a:ext cx="4432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Pharma: 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	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	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	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15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Defense: 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	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	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	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Technology: 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	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	</a:t>
            </a:r>
            <a:r>
              <a:rPr b="0" lang="en-US" sz="3600" spc="-1" strike="noStrike">
                <a:solidFill>
                  <a:srgbClr val="17375e"/>
                </a:solidFill>
                <a:latin typeface="Arial"/>
                <a:ea typeface="굴림"/>
              </a:rPr>
              <a:t>  7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0"/>
          <p:cNvSpPr/>
          <p:nvPr/>
        </p:nvSpPr>
        <p:spPr>
          <a:xfrm>
            <a:off x="4623480" y="5605560"/>
            <a:ext cx="425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e46c0a"/>
                </a:solidFill>
                <a:latin typeface="Arial"/>
              </a:rPr>
              <a:t>Education: 0.7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rapezoid 25"/>
          <p:cNvSpPr/>
          <p:nvPr/>
        </p:nvSpPr>
        <p:spPr>
          <a:xfrm rot="15925800">
            <a:off x="1693080" y="-1281600"/>
            <a:ext cx="6973920" cy="8382240"/>
          </a:xfrm>
          <a:custGeom>
            <a:avLst/>
            <a:gdLst/>
            <a:ahLst/>
            <a:rect l="l" t="t" r="r" b="b"/>
            <a:pathLst>
              <a:path w="6973888" h="8382000">
                <a:moveTo>
                  <a:pt x="0" y="8382000"/>
                </a:moveTo>
                <a:lnTo>
                  <a:pt x="3047450" y="0"/>
                </a:lnTo>
                <a:lnTo>
                  <a:pt x="3926438" y="0"/>
                </a:lnTo>
                <a:lnTo>
                  <a:pt x="6973888" y="8382000"/>
                </a:lnTo>
                <a:lnTo>
                  <a:pt x="0" y="83820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rapezoid 26"/>
          <p:cNvSpPr/>
          <p:nvPr/>
        </p:nvSpPr>
        <p:spPr>
          <a:xfrm rot="18345600">
            <a:off x="1407960" y="829080"/>
            <a:ext cx="6850080" cy="9970920"/>
          </a:xfrm>
          <a:custGeom>
            <a:avLst/>
            <a:gdLst/>
            <a:ahLst/>
            <a:rect l="l" t="t" r="r" b="b"/>
            <a:pathLst>
              <a:path w="6850062" h="9971088">
                <a:moveTo>
                  <a:pt x="0" y="9971088"/>
                </a:moveTo>
                <a:lnTo>
                  <a:pt x="2993340" y="0"/>
                </a:lnTo>
                <a:lnTo>
                  <a:pt x="3856722" y="0"/>
                </a:lnTo>
                <a:lnTo>
                  <a:pt x="6850062" y="9971088"/>
                </a:lnTo>
                <a:lnTo>
                  <a:pt x="0" y="9971088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2" descr=""/>
          <p:cNvPicPr/>
          <p:nvPr/>
        </p:nvPicPr>
        <p:blipFill>
          <a:blip r:embed="rId1"/>
          <a:stretch/>
        </p:blipFill>
        <p:spPr>
          <a:xfrm>
            <a:off x="390600" y="1392120"/>
            <a:ext cx="2546280" cy="2563920"/>
          </a:xfrm>
          <a:prstGeom prst="rect">
            <a:avLst/>
          </a:prstGeom>
          <a:ln w="0">
            <a:noFill/>
          </a:ln>
        </p:spPr>
      </p:pic>
      <p:sp>
        <p:nvSpPr>
          <p:cNvPr id="631" name="Hexagon 23"/>
          <p:cNvSpPr/>
          <p:nvPr/>
        </p:nvSpPr>
        <p:spPr>
          <a:xfrm rot="19767600">
            <a:off x="950760" y="1485720"/>
            <a:ext cx="1440000" cy="1250640"/>
          </a:xfrm>
          <a:prstGeom prst="hexagon">
            <a:avLst>
              <a:gd name="adj" fmla="val 28028"/>
              <a:gd name="vf" fmla="val 115470"/>
            </a:avLst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Hexagon 24"/>
          <p:cNvSpPr/>
          <p:nvPr/>
        </p:nvSpPr>
        <p:spPr>
          <a:xfrm rot="19767600">
            <a:off x="1593720" y="2610000"/>
            <a:ext cx="1440000" cy="1249200"/>
          </a:xfrm>
          <a:prstGeom prst="hexagon">
            <a:avLst>
              <a:gd name="adj" fmla="val 28023"/>
              <a:gd name="vf" fmla="val 115470"/>
            </a:avLst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Box 8"/>
          <p:cNvSpPr/>
          <p:nvPr/>
        </p:nvSpPr>
        <p:spPr>
          <a:xfrm>
            <a:off x="3886200" y="1442880"/>
            <a:ext cx="3971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Reliable, real-time measures o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NxG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Student ow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of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9"/>
          <p:cNvSpPr/>
          <p:nvPr/>
        </p:nvSpPr>
        <p:spPr>
          <a:xfrm>
            <a:off x="369720" y="399960"/>
            <a:ext cx="815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NxGL Assessmen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5"/>
          <p:cNvSpPr/>
          <p:nvPr/>
        </p:nvSpPr>
        <p:spPr>
          <a:xfrm>
            <a:off x="1038240" y="1884240"/>
            <a:ext cx="12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NXG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6"/>
          <p:cNvSpPr/>
          <p:nvPr/>
        </p:nvSpPr>
        <p:spPr>
          <a:xfrm>
            <a:off x="1671480" y="3016080"/>
            <a:ext cx="12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EDU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Box 11"/>
          <p:cNvSpPr/>
          <p:nvPr/>
        </p:nvSpPr>
        <p:spPr>
          <a:xfrm>
            <a:off x="282600" y="2982960"/>
            <a:ext cx="14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NXG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rapezoid 23"/>
          <p:cNvSpPr/>
          <p:nvPr/>
        </p:nvSpPr>
        <p:spPr>
          <a:xfrm rot="15925800">
            <a:off x="1693080" y="-1281600"/>
            <a:ext cx="6973920" cy="8382240"/>
          </a:xfrm>
          <a:custGeom>
            <a:avLst/>
            <a:gdLst/>
            <a:ahLst/>
            <a:rect l="l" t="t" r="r" b="b"/>
            <a:pathLst>
              <a:path w="6973888" h="8382000">
                <a:moveTo>
                  <a:pt x="0" y="8382000"/>
                </a:moveTo>
                <a:lnTo>
                  <a:pt x="3047450" y="0"/>
                </a:lnTo>
                <a:lnTo>
                  <a:pt x="3926438" y="0"/>
                </a:lnTo>
                <a:lnTo>
                  <a:pt x="6973888" y="8382000"/>
                </a:lnTo>
                <a:lnTo>
                  <a:pt x="0" y="8382000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rapezoid 24"/>
          <p:cNvSpPr/>
          <p:nvPr/>
        </p:nvSpPr>
        <p:spPr>
          <a:xfrm rot="18345600">
            <a:off x="1407960" y="829080"/>
            <a:ext cx="6850080" cy="9970920"/>
          </a:xfrm>
          <a:custGeom>
            <a:avLst/>
            <a:gdLst/>
            <a:ahLst/>
            <a:rect l="l" t="t" r="r" b="b"/>
            <a:pathLst>
              <a:path w="6850062" h="9971088">
                <a:moveTo>
                  <a:pt x="0" y="9971088"/>
                </a:moveTo>
                <a:lnTo>
                  <a:pt x="2993340" y="0"/>
                </a:lnTo>
                <a:lnTo>
                  <a:pt x="3856722" y="0"/>
                </a:lnTo>
                <a:lnTo>
                  <a:pt x="6850062" y="9971088"/>
                </a:lnTo>
                <a:lnTo>
                  <a:pt x="0" y="9971088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17"/>
          <p:cNvSpPr/>
          <p:nvPr/>
        </p:nvSpPr>
        <p:spPr>
          <a:xfrm>
            <a:off x="3819600" y="4006800"/>
            <a:ext cx="4811760" cy="2851200"/>
          </a:xfrm>
          <a:prstGeom prst="rect">
            <a:avLst/>
          </a:prstGeom>
          <a:solidFill>
            <a:srgbClr val="ec8a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15"/>
          <p:cNvSpPr/>
          <p:nvPr/>
        </p:nvSpPr>
        <p:spPr>
          <a:xfrm>
            <a:off x="3828960" y="1454040"/>
            <a:ext cx="4802400" cy="2502000"/>
          </a:xfrm>
          <a:prstGeom prst="rect">
            <a:avLst/>
          </a:prstGeom>
          <a:solidFill>
            <a:srgbClr val="ec8a4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9"/>
          <p:cNvSpPr/>
          <p:nvPr/>
        </p:nvSpPr>
        <p:spPr>
          <a:xfrm>
            <a:off x="369720" y="399960"/>
            <a:ext cx="877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NxGL Assessment: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Exampl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10"/>
          <p:cNvSpPr/>
          <p:nvPr/>
        </p:nvSpPr>
        <p:spPr>
          <a:xfrm>
            <a:off x="4017960" y="1798560"/>
            <a:ext cx="4078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Portfolio-based performance/production assessment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that demonstrate mastery of complex knowledge/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13"/>
          <p:cNvSpPr/>
          <p:nvPr/>
        </p:nvSpPr>
        <p:spPr>
          <a:xfrm>
            <a:off x="4022640" y="4311720"/>
            <a:ext cx="4222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New ways of gaining credit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굴림"/>
              </a:rPr>
              <a:t>for successful tasks undertaken inside and outside of school, thereby opening up alternative uses of time and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390600" y="1392120"/>
            <a:ext cx="2546280" cy="2563920"/>
          </a:xfrm>
          <a:prstGeom prst="rect">
            <a:avLst/>
          </a:prstGeom>
          <a:ln w="0">
            <a:noFill/>
          </a:ln>
        </p:spPr>
      </p:pic>
      <p:sp>
        <p:nvSpPr>
          <p:cNvPr id="646" name="Hexagon 19"/>
          <p:cNvSpPr/>
          <p:nvPr/>
        </p:nvSpPr>
        <p:spPr>
          <a:xfrm rot="19767600">
            <a:off x="950760" y="1485720"/>
            <a:ext cx="1440000" cy="1250640"/>
          </a:xfrm>
          <a:prstGeom prst="hexagon">
            <a:avLst>
              <a:gd name="adj" fmla="val 28028"/>
              <a:gd name="vf" fmla="val 115470"/>
            </a:avLst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Hexagon 20"/>
          <p:cNvSpPr/>
          <p:nvPr/>
        </p:nvSpPr>
        <p:spPr>
          <a:xfrm rot="19767600">
            <a:off x="1593720" y="2610000"/>
            <a:ext cx="1440000" cy="1249200"/>
          </a:xfrm>
          <a:prstGeom prst="hexagon">
            <a:avLst>
              <a:gd name="adj" fmla="val 28023"/>
              <a:gd name="vf" fmla="val 115470"/>
            </a:avLst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Box 21"/>
          <p:cNvSpPr/>
          <p:nvPr/>
        </p:nvSpPr>
        <p:spPr>
          <a:xfrm>
            <a:off x="390600" y="2982960"/>
            <a:ext cx="126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NXG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ASSESS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Box 22"/>
          <p:cNvSpPr/>
          <p:nvPr/>
        </p:nvSpPr>
        <p:spPr>
          <a:xfrm>
            <a:off x="1038240" y="1884240"/>
            <a:ext cx="12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NXG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25"/>
          <p:cNvSpPr/>
          <p:nvPr/>
        </p:nvSpPr>
        <p:spPr>
          <a:xfrm>
            <a:off x="1671480" y="3016080"/>
            <a:ext cx="12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EDU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28"/>
          <p:cNvSpPr/>
          <p:nvPr/>
        </p:nvSpPr>
        <p:spPr>
          <a:xfrm>
            <a:off x="4016520" y="1558800"/>
            <a:ext cx="126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30"/>
          <p:cNvSpPr/>
          <p:nvPr/>
        </p:nvSpPr>
        <p:spPr>
          <a:xfrm>
            <a:off x="4024440" y="4084560"/>
            <a:ext cx="15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rapezoid 25"/>
          <p:cNvSpPr/>
          <p:nvPr/>
        </p:nvSpPr>
        <p:spPr>
          <a:xfrm rot="15925800">
            <a:off x="2483280" y="-1404360"/>
            <a:ext cx="6975720" cy="8383680"/>
          </a:xfrm>
          <a:custGeom>
            <a:avLst/>
            <a:gdLst/>
            <a:ahLst/>
            <a:rect l="l" t="t" r="r" b="b"/>
            <a:pathLst>
              <a:path w="6975476" h="8383587">
                <a:moveTo>
                  <a:pt x="0" y="8383587"/>
                </a:moveTo>
                <a:lnTo>
                  <a:pt x="3048144" y="0"/>
                </a:lnTo>
                <a:lnTo>
                  <a:pt x="3927332" y="0"/>
                </a:lnTo>
                <a:lnTo>
                  <a:pt x="6975476" y="8383587"/>
                </a:lnTo>
                <a:lnTo>
                  <a:pt x="0" y="8383587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rapezoid 26"/>
          <p:cNvSpPr/>
          <p:nvPr/>
        </p:nvSpPr>
        <p:spPr>
          <a:xfrm rot="18345600">
            <a:off x="2200680" y="706680"/>
            <a:ext cx="6848640" cy="9971280"/>
          </a:xfrm>
          <a:custGeom>
            <a:avLst/>
            <a:gdLst/>
            <a:ahLst/>
            <a:rect l="l" t="t" r="r" b="b"/>
            <a:pathLst>
              <a:path w="6848475" h="9971087">
                <a:moveTo>
                  <a:pt x="0" y="9971087"/>
                </a:moveTo>
                <a:lnTo>
                  <a:pt x="2992647" y="0"/>
                </a:lnTo>
                <a:lnTo>
                  <a:pt x="3855828" y="0"/>
                </a:lnTo>
                <a:lnTo>
                  <a:pt x="6848475" y="9971087"/>
                </a:lnTo>
                <a:lnTo>
                  <a:pt x="0" y="9971087"/>
                </a:ln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Picture 2" descr=""/>
          <p:cNvPicPr/>
          <p:nvPr/>
        </p:nvPicPr>
        <p:blipFill>
          <a:blip r:embed="rId1"/>
          <a:stretch/>
        </p:blipFill>
        <p:spPr>
          <a:xfrm>
            <a:off x="390600" y="1392120"/>
            <a:ext cx="2546280" cy="2563920"/>
          </a:xfrm>
          <a:prstGeom prst="rect">
            <a:avLst/>
          </a:prstGeom>
          <a:ln w="0">
            <a:noFill/>
          </a:ln>
        </p:spPr>
      </p:pic>
      <p:sp>
        <p:nvSpPr>
          <p:cNvPr id="656" name="Hexagon 23"/>
          <p:cNvSpPr/>
          <p:nvPr/>
        </p:nvSpPr>
        <p:spPr>
          <a:xfrm rot="19767600">
            <a:off x="950760" y="1485720"/>
            <a:ext cx="1440000" cy="1250640"/>
          </a:xfrm>
          <a:prstGeom prst="hexagon">
            <a:avLst>
              <a:gd name="adj" fmla="val 28028"/>
              <a:gd name="vf" fmla="val 115470"/>
            </a:avLst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Hexagon 24"/>
          <p:cNvSpPr/>
          <p:nvPr/>
        </p:nvSpPr>
        <p:spPr>
          <a:xfrm rot="19767600">
            <a:off x="298440" y="2625840"/>
            <a:ext cx="1440000" cy="1249200"/>
          </a:xfrm>
          <a:prstGeom prst="hexagon">
            <a:avLst>
              <a:gd name="adj" fmla="val 28023"/>
              <a:gd name="vf" fmla="val 115470"/>
            </a:avLst>
          </a:prstGeom>
          <a:solidFill>
            <a:srgbClr val="7f7f7f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8"/>
          <p:cNvSpPr/>
          <p:nvPr/>
        </p:nvSpPr>
        <p:spPr>
          <a:xfrm>
            <a:off x="3886200" y="1708200"/>
            <a:ext cx="42894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Commitment to person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Reframe the single-teacher mode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굴림"/>
              </a:rPr>
              <a:t>of learning to differentiated roles for ad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9"/>
          <p:cNvSpPr/>
          <p:nvPr/>
        </p:nvSpPr>
        <p:spPr>
          <a:xfrm>
            <a:off x="369720" y="399960"/>
            <a:ext cx="815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NxGL Educator Capac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5"/>
          <p:cNvSpPr/>
          <p:nvPr/>
        </p:nvSpPr>
        <p:spPr>
          <a:xfrm>
            <a:off x="1038240" y="1884240"/>
            <a:ext cx="12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NXG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6"/>
          <p:cNvSpPr/>
          <p:nvPr/>
        </p:nvSpPr>
        <p:spPr>
          <a:xfrm>
            <a:off x="1671480" y="3016080"/>
            <a:ext cx="1265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EDUC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CAPA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11"/>
          <p:cNvSpPr/>
          <p:nvPr/>
        </p:nvSpPr>
        <p:spPr>
          <a:xfrm>
            <a:off x="282600" y="2982960"/>
            <a:ext cx="1433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NXG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굴림"/>
              </a:rPr>
              <a:t>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Picture 2" descr=""/>
          <p:cNvPicPr/>
          <p:nvPr/>
        </p:nvPicPr>
        <p:blipFill>
          <a:blip r:embed="rId1"/>
          <a:stretch/>
        </p:blipFill>
        <p:spPr>
          <a:xfrm>
            <a:off x="1639800" y="396720"/>
            <a:ext cx="5713560" cy="5753160"/>
          </a:xfrm>
          <a:prstGeom prst="rect">
            <a:avLst/>
          </a:prstGeom>
          <a:ln w="0">
            <a:noFill/>
          </a:ln>
        </p:spPr>
      </p:pic>
      <p:sp>
        <p:nvSpPr>
          <p:cNvPr id="665" name="TextBox 13"/>
          <p:cNvSpPr/>
          <p:nvPr/>
        </p:nvSpPr>
        <p:spPr>
          <a:xfrm>
            <a:off x="1639800" y="4040280"/>
            <a:ext cx="280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굴림"/>
              </a:rPr>
              <a:t>NxGL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굴림"/>
              </a:rPr>
              <a:t>ASSESSMEN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Box 14"/>
          <p:cNvSpPr/>
          <p:nvPr/>
        </p:nvSpPr>
        <p:spPr>
          <a:xfrm>
            <a:off x="3111480" y="1565280"/>
            <a:ext cx="283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굴림"/>
              </a:rPr>
              <a:t>NxGL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굴림"/>
              </a:rPr>
              <a:t>DIAGNOSTIC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5"/>
          <p:cNvSpPr/>
          <p:nvPr/>
        </p:nvSpPr>
        <p:spPr>
          <a:xfrm>
            <a:off x="4619520" y="4040280"/>
            <a:ext cx="27338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  <a:ea typeface="굴림"/>
              </a:rPr>
              <a:t>EDUCATO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굴림"/>
              </a:rPr>
              <a:t>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Rectangle 4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25"/>
          <p:cNvSpPr/>
          <p:nvPr/>
        </p:nvSpPr>
        <p:spPr>
          <a:xfrm>
            <a:off x="2662200" y="2739960"/>
            <a:ext cx="1971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665280" y="1622520"/>
            <a:ext cx="1971720" cy="11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5"/>
          <p:cNvSpPr/>
          <p:nvPr/>
        </p:nvSpPr>
        <p:spPr>
          <a:xfrm>
            <a:off x="2662200" y="1622520"/>
            <a:ext cx="1971720" cy="11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6"/>
          <p:cNvSpPr/>
          <p:nvPr/>
        </p:nvSpPr>
        <p:spPr>
          <a:xfrm>
            <a:off x="4660920" y="1622520"/>
            <a:ext cx="1969920" cy="1117440"/>
          </a:xfrm>
          <a:prstGeom prst="rect">
            <a:avLst/>
          </a:prstGeom>
          <a:solidFill>
            <a:srgbClr val="264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6657840" y="1622520"/>
            <a:ext cx="1971720" cy="11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32"/>
          <p:cNvSpPr/>
          <p:nvPr/>
        </p:nvSpPr>
        <p:spPr>
          <a:xfrm>
            <a:off x="879480" y="1916280"/>
            <a:ext cx="1487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SCAL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NxG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33"/>
          <p:cNvSpPr/>
          <p:nvPr/>
        </p:nvSpPr>
        <p:spPr>
          <a:xfrm>
            <a:off x="2981160" y="1916280"/>
            <a:ext cx="126216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ENTRY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굴림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34"/>
          <p:cNvSpPr/>
          <p:nvPr/>
        </p:nvSpPr>
        <p:spPr>
          <a:xfrm>
            <a:off x="4660920" y="1916280"/>
            <a:ext cx="1957320" cy="580680"/>
          </a:xfrm>
          <a:prstGeom prst="rect">
            <a:avLst/>
          </a:prstGeom>
          <a:solidFill>
            <a:srgbClr val="264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RAPID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PROTO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36"/>
          <p:cNvSpPr/>
          <p:nvPr/>
        </p:nvSpPr>
        <p:spPr>
          <a:xfrm>
            <a:off x="6657840" y="1916280"/>
            <a:ext cx="197172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CRE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26"/>
          <p:cNvSpPr/>
          <p:nvPr/>
        </p:nvSpPr>
        <p:spPr>
          <a:xfrm>
            <a:off x="4660920" y="2739960"/>
            <a:ext cx="19699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1"/>
          <p:cNvSpPr/>
          <p:nvPr/>
        </p:nvSpPr>
        <p:spPr>
          <a:xfrm>
            <a:off x="6657840" y="2739960"/>
            <a:ext cx="1971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39"/>
          <p:cNvSpPr/>
          <p:nvPr/>
        </p:nvSpPr>
        <p:spPr>
          <a:xfrm>
            <a:off x="665280" y="2739960"/>
            <a:ext cx="1971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4" descr=""/>
          <p:cNvPicPr/>
          <p:nvPr/>
        </p:nvPicPr>
        <p:blipFill>
          <a:blip r:embed="rId1"/>
          <a:stretch/>
        </p:blipFill>
        <p:spPr>
          <a:xfrm>
            <a:off x="762120" y="3235320"/>
            <a:ext cx="1739880" cy="115092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2" descr=""/>
          <p:cNvPicPr/>
          <p:nvPr/>
        </p:nvPicPr>
        <p:blipFill>
          <a:blip r:embed="rId2"/>
          <a:stretch/>
        </p:blipFill>
        <p:spPr>
          <a:xfrm>
            <a:off x="2855880" y="2916360"/>
            <a:ext cx="1590840" cy="160164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 txBox="1"/>
          <p:nvPr/>
        </p:nvSpPr>
        <p:spPr>
          <a:xfrm>
            <a:off x="577440" y="222120"/>
            <a:ext cx="82090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RAPID PROTOTYP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4" name="Picture 4" descr=""/>
          <p:cNvPicPr/>
          <p:nvPr/>
        </p:nvPicPr>
        <p:blipFill>
          <a:blip r:embed="rId3"/>
          <a:stretch/>
        </p:blipFill>
        <p:spPr>
          <a:xfrm>
            <a:off x="6802560" y="2944800"/>
            <a:ext cx="1690560" cy="1601640"/>
          </a:xfrm>
          <a:prstGeom prst="rect">
            <a:avLst/>
          </a:prstGeom>
          <a:ln w="0">
            <a:noFill/>
          </a:ln>
        </p:spPr>
      </p:pic>
      <p:pic>
        <p:nvPicPr>
          <p:cNvPr id="685" name="Picture 2" descr=""/>
          <p:cNvPicPr/>
          <p:nvPr/>
        </p:nvPicPr>
        <p:blipFill>
          <a:blip r:embed="rId4"/>
          <a:stretch/>
        </p:blipFill>
        <p:spPr>
          <a:xfrm>
            <a:off x="4778280" y="2894040"/>
            <a:ext cx="173520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TextBox 4"/>
          <p:cNvSpPr/>
          <p:nvPr/>
        </p:nvSpPr>
        <p:spPr>
          <a:xfrm>
            <a:off x="3962520" y="146844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굴림"/>
              </a:rPr>
              <a:t>State L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Picture 2" descr=""/>
          <p:cNvPicPr/>
          <p:nvPr/>
        </p:nvPicPr>
        <p:blipFill>
          <a:blip r:embed="rId1"/>
          <a:stretch/>
        </p:blipFill>
        <p:spPr>
          <a:xfrm>
            <a:off x="1944720" y="1055520"/>
            <a:ext cx="5254560" cy="4683240"/>
          </a:xfrm>
          <a:prstGeom prst="rect">
            <a:avLst/>
          </a:prstGeom>
          <a:ln w="0">
            <a:noFill/>
          </a:ln>
        </p:spPr>
      </p:pic>
      <p:sp>
        <p:nvSpPr>
          <p:cNvPr id="688" name="TextBox 13"/>
          <p:cNvSpPr/>
          <p:nvPr/>
        </p:nvSpPr>
        <p:spPr>
          <a:xfrm>
            <a:off x="6485040" y="1944720"/>
            <a:ext cx="32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2.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14"/>
          <p:cNvSpPr/>
          <p:nvPr/>
        </p:nvSpPr>
        <p:spPr>
          <a:xfrm>
            <a:off x="6173640" y="5187960"/>
            <a:ext cx="32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3. Impl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Box 15"/>
          <p:cNvSpPr/>
          <p:nvPr/>
        </p:nvSpPr>
        <p:spPr>
          <a:xfrm>
            <a:off x="-127080" y="5187960"/>
            <a:ext cx="290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4. Sha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17"/>
          <p:cNvSpPr/>
          <p:nvPr/>
        </p:nvSpPr>
        <p:spPr>
          <a:xfrm>
            <a:off x="665280" y="1944720"/>
            <a:ext cx="324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굴림"/>
              </a:rPr>
              <a:t>1. Diagn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7"/>
          <p:cNvSpPr/>
          <p:nvPr/>
        </p:nvSpPr>
        <p:spPr>
          <a:xfrm>
            <a:off x="393840" y="260280"/>
            <a:ext cx="587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24-Week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3" name="Picture 2" descr=""/>
          <p:cNvPicPr/>
          <p:nvPr/>
        </p:nvPicPr>
        <p:blipFill>
          <a:blip r:embed="rId1"/>
          <a:stretch/>
        </p:blipFill>
        <p:spPr>
          <a:xfrm>
            <a:off x="2770200" y="1601640"/>
            <a:ext cx="3525840" cy="3141720"/>
          </a:xfrm>
          <a:prstGeom prst="rect">
            <a:avLst/>
          </a:prstGeom>
          <a:ln w="0">
            <a:noFill/>
          </a:ln>
        </p:spPr>
      </p:pic>
      <p:sp>
        <p:nvSpPr>
          <p:cNvPr id="694" name="TextBox 3"/>
          <p:cNvSpPr/>
          <p:nvPr/>
        </p:nvSpPr>
        <p:spPr>
          <a:xfrm>
            <a:off x="341280" y="160164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Diagn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4"/>
          <p:cNvSpPr/>
          <p:nvPr/>
        </p:nvSpPr>
        <p:spPr>
          <a:xfrm>
            <a:off x="3246480" y="2728800"/>
            <a:ext cx="339840" cy="338400"/>
          </a:xfrm>
          <a:prstGeom prst="ellipse">
            <a:avLst/>
          </a:prstGeom>
          <a:solidFill>
            <a:srgbClr val="264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Straight Connector 6"/>
          <p:cNvSpPr/>
          <p:nvPr/>
        </p:nvSpPr>
        <p:spPr>
          <a:xfrm>
            <a:off x="2770200" y="2433600"/>
            <a:ext cx="525600" cy="344520"/>
          </a:xfrm>
          <a:prstGeom prst="line">
            <a:avLst/>
          </a:prstGeom>
          <a:ln w="25560">
            <a:solidFill>
              <a:srgbClr val="264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7"/>
          <p:cNvSpPr/>
          <p:nvPr/>
        </p:nvSpPr>
        <p:spPr>
          <a:xfrm>
            <a:off x="5556240" y="160164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</a:rPr>
              <a:t>Pl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8"/>
          <p:cNvSpPr/>
          <p:nvPr/>
        </p:nvSpPr>
        <p:spPr>
          <a:xfrm>
            <a:off x="5556240" y="474336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</a:rPr>
              <a:t>Impl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Box 9"/>
          <p:cNvSpPr/>
          <p:nvPr/>
        </p:nvSpPr>
        <p:spPr>
          <a:xfrm>
            <a:off x="341280" y="4743360"/>
            <a:ext cx="290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</a:rPr>
              <a:t>Sh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0" name="Picture 2" descr=""/>
          <p:cNvPicPr/>
          <p:nvPr/>
        </p:nvPicPr>
        <p:blipFill>
          <a:blip r:embed="rId1"/>
          <a:stretch/>
        </p:blipFill>
        <p:spPr>
          <a:xfrm>
            <a:off x="2770200" y="1601640"/>
            <a:ext cx="3525840" cy="3141720"/>
          </a:xfrm>
          <a:prstGeom prst="rect">
            <a:avLst/>
          </a:prstGeom>
          <a:ln w="0">
            <a:noFill/>
          </a:ln>
        </p:spPr>
      </p:pic>
      <p:sp>
        <p:nvSpPr>
          <p:cNvPr id="701" name="TextBox 3"/>
          <p:cNvSpPr/>
          <p:nvPr/>
        </p:nvSpPr>
        <p:spPr>
          <a:xfrm>
            <a:off x="341280" y="160164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  <a:ea typeface="굴림"/>
              </a:rPr>
              <a:t>Diagn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Oval 4"/>
          <p:cNvSpPr/>
          <p:nvPr/>
        </p:nvSpPr>
        <p:spPr>
          <a:xfrm>
            <a:off x="5445000" y="2719440"/>
            <a:ext cx="339840" cy="338040"/>
          </a:xfrm>
          <a:prstGeom prst="ellipse">
            <a:avLst/>
          </a:prstGeom>
          <a:solidFill>
            <a:srgbClr val="264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Straight Connector 6"/>
          <p:cNvSpPr/>
          <p:nvPr/>
        </p:nvSpPr>
        <p:spPr>
          <a:xfrm flipH="1">
            <a:off x="5733720" y="2424240"/>
            <a:ext cx="304920" cy="344520"/>
          </a:xfrm>
          <a:prstGeom prst="line">
            <a:avLst/>
          </a:prstGeom>
          <a:ln w="25560">
            <a:solidFill>
              <a:srgbClr val="264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5"/>
          <p:cNvSpPr/>
          <p:nvPr/>
        </p:nvSpPr>
        <p:spPr>
          <a:xfrm>
            <a:off x="5556240" y="160164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Pl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7"/>
          <p:cNvSpPr/>
          <p:nvPr/>
        </p:nvSpPr>
        <p:spPr>
          <a:xfrm>
            <a:off x="5556240" y="474336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  <a:ea typeface="굴림"/>
              </a:rPr>
              <a:t>Impl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8"/>
          <p:cNvSpPr/>
          <p:nvPr/>
        </p:nvSpPr>
        <p:spPr>
          <a:xfrm>
            <a:off x="341280" y="4743360"/>
            <a:ext cx="290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  <a:ea typeface="굴림"/>
              </a:rPr>
              <a:t>Sh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2770200" y="1601640"/>
            <a:ext cx="3525840" cy="3141720"/>
          </a:xfrm>
          <a:prstGeom prst="rect">
            <a:avLst/>
          </a:prstGeom>
          <a:ln w="0">
            <a:noFill/>
          </a:ln>
        </p:spPr>
      </p:pic>
      <p:sp>
        <p:nvSpPr>
          <p:cNvPr id="708" name="TextBox 3"/>
          <p:cNvSpPr/>
          <p:nvPr/>
        </p:nvSpPr>
        <p:spPr>
          <a:xfrm>
            <a:off x="341280" y="160164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  <a:ea typeface="굴림"/>
              </a:rPr>
              <a:t>Diagn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Oval 4"/>
          <p:cNvSpPr/>
          <p:nvPr/>
        </p:nvSpPr>
        <p:spPr>
          <a:xfrm>
            <a:off x="5445000" y="4046400"/>
            <a:ext cx="339840" cy="33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264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traight Connector 6"/>
          <p:cNvSpPr/>
          <p:nvPr/>
        </p:nvSpPr>
        <p:spPr>
          <a:xfrm flipH="1" flipV="1">
            <a:off x="5734080" y="4336560"/>
            <a:ext cx="450720" cy="328680"/>
          </a:xfrm>
          <a:prstGeom prst="line">
            <a:avLst/>
          </a:prstGeom>
          <a:ln w="25560">
            <a:solidFill>
              <a:srgbClr val="264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Box 5"/>
          <p:cNvSpPr/>
          <p:nvPr/>
        </p:nvSpPr>
        <p:spPr>
          <a:xfrm>
            <a:off x="5556240" y="160164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  <a:ea typeface="굴림"/>
              </a:rPr>
              <a:t>Pl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Box 7"/>
          <p:cNvSpPr/>
          <p:nvPr/>
        </p:nvSpPr>
        <p:spPr>
          <a:xfrm>
            <a:off x="5556240" y="474336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Impl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8"/>
          <p:cNvSpPr/>
          <p:nvPr/>
        </p:nvSpPr>
        <p:spPr>
          <a:xfrm>
            <a:off x="341280" y="4743360"/>
            <a:ext cx="290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  <a:ea typeface="굴림"/>
              </a:rPr>
              <a:t>Sh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2770200" y="1601640"/>
            <a:ext cx="3525840" cy="3141720"/>
          </a:xfrm>
          <a:prstGeom prst="rect">
            <a:avLst/>
          </a:prstGeom>
          <a:ln w="0">
            <a:noFill/>
          </a:ln>
        </p:spPr>
      </p:pic>
      <p:sp>
        <p:nvSpPr>
          <p:cNvPr id="715" name="TextBox 3"/>
          <p:cNvSpPr/>
          <p:nvPr/>
        </p:nvSpPr>
        <p:spPr>
          <a:xfrm>
            <a:off x="341280" y="160164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</a:rPr>
              <a:t>Diagno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Oval 4"/>
          <p:cNvSpPr/>
          <p:nvPr/>
        </p:nvSpPr>
        <p:spPr>
          <a:xfrm>
            <a:off x="3289320" y="4022640"/>
            <a:ext cx="339840" cy="339840"/>
          </a:xfrm>
          <a:prstGeom prst="ellipse">
            <a:avLst/>
          </a:prstGeom>
          <a:solidFill>
            <a:srgbClr val="264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5"/>
          <p:cNvSpPr/>
          <p:nvPr/>
        </p:nvSpPr>
        <p:spPr>
          <a:xfrm>
            <a:off x="5556240" y="160164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</a:rPr>
              <a:t>Pl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7"/>
          <p:cNvSpPr/>
          <p:nvPr/>
        </p:nvSpPr>
        <p:spPr>
          <a:xfrm>
            <a:off x="5556240" y="4743360"/>
            <a:ext cx="32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d9d9d9"/>
                </a:solidFill>
                <a:latin typeface="Arial"/>
              </a:rPr>
              <a:t>Impl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8"/>
          <p:cNvSpPr/>
          <p:nvPr/>
        </p:nvSpPr>
        <p:spPr>
          <a:xfrm>
            <a:off x="341280" y="4743360"/>
            <a:ext cx="290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굴림"/>
              </a:rPr>
              <a:t>Sha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Straight Connector 9"/>
          <p:cNvSpPr/>
          <p:nvPr/>
        </p:nvSpPr>
        <p:spPr>
          <a:xfrm flipV="1">
            <a:off x="3018600" y="4313160"/>
            <a:ext cx="320760" cy="371520"/>
          </a:xfrm>
          <a:prstGeom prst="line">
            <a:avLst/>
          </a:prstGeom>
          <a:ln w="25560">
            <a:solidFill>
              <a:srgbClr val="264f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4" descr=""/>
          <p:cNvPicPr/>
          <p:nvPr/>
        </p:nvPicPr>
        <p:blipFill>
          <a:blip r:embed="rId1"/>
          <a:srcRect l="0" t="526" r="0" b="0"/>
          <a:stretch/>
        </p:blipFill>
        <p:spPr>
          <a:xfrm>
            <a:off x="1625760" y="14400"/>
            <a:ext cx="57942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4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5"/>
          <p:cNvSpPr/>
          <p:nvPr/>
        </p:nvSpPr>
        <p:spPr>
          <a:xfrm>
            <a:off x="2662200" y="2739960"/>
            <a:ext cx="1971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4"/>
          <p:cNvSpPr/>
          <p:nvPr/>
        </p:nvSpPr>
        <p:spPr>
          <a:xfrm>
            <a:off x="665280" y="1622520"/>
            <a:ext cx="1971720" cy="11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2662200" y="1622520"/>
            <a:ext cx="1971720" cy="11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4660920" y="1622520"/>
            <a:ext cx="1969920" cy="1117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6657840" y="1622520"/>
            <a:ext cx="1971720" cy="1117440"/>
          </a:xfrm>
          <a:prstGeom prst="rect">
            <a:avLst/>
          </a:prstGeom>
          <a:solidFill>
            <a:srgbClr val="264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32"/>
          <p:cNvSpPr/>
          <p:nvPr/>
        </p:nvSpPr>
        <p:spPr>
          <a:xfrm>
            <a:off x="879480" y="1916280"/>
            <a:ext cx="148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PIONEERING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  <a:ea typeface="굴림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CHAN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Box 33"/>
          <p:cNvSpPr/>
          <p:nvPr/>
        </p:nvSpPr>
        <p:spPr>
          <a:xfrm>
            <a:off x="2981160" y="1916280"/>
            <a:ext cx="126216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ENTRY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굴림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TextBox 34"/>
          <p:cNvSpPr/>
          <p:nvPr/>
        </p:nvSpPr>
        <p:spPr>
          <a:xfrm>
            <a:off x="4660920" y="1916280"/>
            <a:ext cx="1957320" cy="580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RAPI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36"/>
          <p:cNvSpPr/>
          <p:nvPr/>
        </p:nvSpPr>
        <p:spPr>
          <a:xfrm>
            <a:off x="6657840" y="1916280"/>
            <a:ext cx="1971720" cy="580680"/>
          </a:xfrm>
          <a:prstGeom prst="rect">
            <a:avLst/>
          </a:prstGeom>
          <a:solidFill>
            <a:srgbClr val="264f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CRE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Rectangle 26"/>
          <p:cNvSpPr/>
          <p:nvPr/>
        </p:nvSpPr>
        <p:spPr>
          <a:xfrm>
            <a:off x="4660920" y="2739960"/>
            <a:ext cx="19699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31"/>
          <p:cNvSpPr/>
          <p:nvPr/>
        </p:nvSpPr>
        <p:spPr>
          <a:xfrm>
            <a:off x="6657840" y="2739960"/>
            <a:ext cx="1971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9"/>
          <p:cNvSpPr/>
          <p:nvPr/>
        </p:nvSpPr>
        <p:spPr>
          <a:xfrm>
            <a:off x="665280" y="2739960"/>
            <a:ext cx="1971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4" descr=""/>
          <p:cNvPicPr/>
          <p:nvPr/>
        </p:nvPicPr>
        <p:blipFill>
          <a:blip r:embed="rId1"/>
          <a:stretch/>
        </p:blipFill>
        <p:spPr>
          <a:xfrm>
            <a:off x="762120" y="3235320"/>
            <a:ext cx="1739880" cy="115092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2" descr=""/>
          <p:cNvPicPr/>
          <p:nvPr/>
        </p:nvPicPr>
        <p:blipFill>
          <a:blip r:embed="rId2"/>
          <a:stretch/>
        </p:blipFill>
        <p:spPr>
          <a:xfrm>
            <a:off x="2855880" y="2916360"/>
            <a:ext cx="1590840" cy="160164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 txBox="1"/>
          <p:nvPr/>
        </p:nvSpPr>
        <p:spPr>
          <a:xfrm>
            <a:off x="577440" y="222120"/>
            <a:ext cx="82090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CREATING CONDI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Picture 4" descr=""/>
          <p:cNvPicPr/>
          <p:nvPr/>
        </p:nvPicPr>
        <p:blipFill>
          <a:blip r:embed="rId3"/>
          <a:stretch/>
        </p:blipFill>
        <p:spPr>
          <a:xfrm>
            <a:off x="6802560" y="2944800"/>
            <a:ext cx="1690560" cy="160164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2" descr=""/>
          <p:cNvPicPr/>
          <p:nvPr/>
        </p:nvPicPr>
        <p:blipFill>
          <a:blip r:embed="rId4"/>
          <a:stretch/>
        </p:blipFill>
        <p:spPr>
          <a:xfrm>
            <a:off x="4778280" y="2894040"/>
            <a:ext cx="173520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13"/>
          <p:cNvSpPr/>
          <p:nvPr/>
        </p:nvSpPr>
        <p:spPr>
          <a:xfrm>
            <a:off x="0" y="1336680"/>
            <a:ext cx="9144000" cy="1833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301680" y="387360"/>
            <a:ext cx="822960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굴림"/>
              </a:rPr>
              <a:t>Partnership Innovation Plat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Content Placeholder 2"/>
          <p:cNvSpPr/>
          <p:nvPr/>
        </p:nvSpPr>
        <p:spPr>
          <a:xfrm>
            <a:off x="4586400" y="1454040"/>
            <a:ext cx="1863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formation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and Analy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Content Placeholder 2"/>
          <p:cNvSpPr/>
          <p:nvPr/>
        </p:nvSpPr>
        <p:spPr>
          <a:xfrm>
            <a:off x="6624720" y="1454040"/>
            <a:ext cx="2057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Connectivity and Advoca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Content Placeholder 2"/>
          <p:cNvSpPr/>
          <p:nvPr/>
        </p:nvSpPr>
        <p:spPr>
          <a:xfrm>
            <a:off x="498600" y="1454040"/>
            <a:ext cx="2033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Experts and Next Pract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Content Placeholder 2"/>
          <p:cNvSpPr/>
          <p:nvPr/>
        </p:nvSpPr>
        <p:spPr>
          <a:xfrm>
            <a:off x="2706840" y="1454040"/>
            <a:ext cx="1706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Innovati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굴림"/>
              </a:rPr>
              <a:t>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Picture 5" descr=""/>
          <p:cNvPicPr/>
          <p:nvPr/>
        </p:nvPicPr>
        <p:blipFill>
          <a:blip r:embed="rId1"/>
          <a:stretch/>
        </p:blipFill>
        <p:spPr>
          <a:xfrm>
            <a:off x="2035080" y="2340000"/>
            <a:ext cx="4640400" cy="42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4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5"/>
          <p:cNvSpPr/>
          <p:nvPr/>
        </p:nvSpPr>
        <p:spPr>
          <a:xfrm>
            <a:off x="2662200" y="2739960"/>
            <a:ext cx="1971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2"/>
          <p:cNvSpPr/>
          <p:nvPr/>
        </p:nvSpPr>
        <p:spPr>
          <a:xfrm>
            <a:off x="879480" y="1916280"/>
            <a:ext cx="148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SCAL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NxG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3"/>
          <p:cNvSpPr/>
          <p:nvPr/>
        </p:nvSpPr>
        <p:spPr>
          <a:xfrm>
            <a:off x="2981160" y="1916280"/>
            <a:ext cx="126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ENTRY</a:t>
            </a:r>
            <a:r>
              <a:rPr b="0" lang="en-US" sz="1200" spc="-1" strike="noStrike">
                <a:solidFill>
                  <a:srgbClr val="ffffff"/>
                </a:solidFill>
                <a:latin typeface="Calibri"/>
                <a:ea typeface="굴림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POI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4"/>
          <p:cNvSpPr/>
          <p:nvPr/>
        </p:nvSpPr>
        <p:spPr>
          <a:xfrm>
            <a:off x="4660920" y="1916280"/>
            <a:ext cx="195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RAPID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굴림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PROTOTY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36"/>
          <p:cNvSpPr/>
          <p:nvPr/>
        </p:nvSpPr>
        <p:spPr>
          <a:xfrm>
            <a:off x="6657840" y="1916280"/>
            <a:ext cx="1971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CREAT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굴림"/>
              </a:rPr>
              <a:t>COND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6"/>
          <p:cNvSpPr/>
          <p:nvPr/>
        </p:nvSpPr>
        <p:spPr>
          <a:xfrm>
            <a:off x="4660920" y="2739960"/>
            <a:ext cx="19699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31"/>
          <p:cNvSpPr/>
          <p:nvPr/>
        </p:nvSpPr>
        <p:spPr>
          <a:xfrm>
            <a:off x="6657840" y="2739960"/>
            <a:ext cx="1971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" descr=""/>
          <p:cNvPicPr/>
          <p:nvPr/>
        </p:nvPicPr>
        <p:blipFill>
          <a:blip r:embed="rId1"/>
          <a:stretch/>
        </p:blipFill>
        <p:spPr>
          <a:xfrm>
            <a:off x="6824520" y="2949480"/>
            <a:ext cx="1724040" cy="16830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39"/>
          <p:cNvSpPr/>
          <p:nvPr/>
        </p:nvSpPr>
        <p:spPr>
          <a:xfrm>
            <a:off x="665280" y="2739960"/>
            <a:ext cx="1971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4" descr=""/>
          <p:cNvPicPr/>
          <p:nvPr/>
        </p:nvPicPr>
        <p:blipFill>
          <a:blip r:embed="rId2"/>
          <a:stretch/>
        </p:blipFill>
        <p:spPr>
          <a:xfrm>
            <a:off x="762120" y="3235320"/>
            <a:ext cx="1739880" cy="115092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2" descr=""/>
          <p:cNvPicPr/>
          <p:nvPr/>
        </p:nvPicPr>
        <p:blipFill>
          <a:blip r:embed="rId3"/>
          <a:stretch/>
        </p:blipFill>
        <p:spPr>
          <a:xfrm>
            <a:off x="2855880" y="2916360"/>
            <a:ext cx="1590840" cy="160164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 txBox="1"/>
          <p:nvPr/>
        </p:nvSpPr>
        <p:spPr>
          <a:xfrm>
            <a:off x="577440" y="222120"/>
            <a:ext cx="820908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굴림"/>
              </a:rPr>
              <a:t>The method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4"/>
          <a:stretch/>
        </p:blipFill>
        <p:spPr>
          <a:xfrm>
            <a:off x="4778280" y="2894040"/>
            <a:ext cx="1735200" cy="17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7772f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39840" y="339480"/>
            <a:ext cx="815184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  <a:ea typeface="굴림"/>
              </a:rPr>
              <a:t>Scaling NxGL:</a:t>
            </a:r>
            <a:br>
              <a:rPr sz="54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굴림"/>
              </a:rPr>
              <a:t>Pioneering Change for 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Arial"/>
                <a:ea typeface="굴림"/>
              </a:rPr>
              <a:t>Next Generation Learning</a:t>
            </a:r>
            <a:br>
              <a:rPr sz="4800"/>
            </a:br>
            <a:br>
              <a:rPr sz="4800"/>
            </a:b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" descr=""/>
          <p:cNvPicPr/>
          <p:nvPr/>
        </p:nvPicPr>
        <p:blipFill>
          <a:blip r:embed="rId1"/>
          <a:stretch/>
        </p:blipFill>
        <p:spPr>
          <a:xfrm>
            <a:off x="909720" y="2679840"/>
            <a:ext cx="6951600" cy="37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160" y="322200"/>
            <a:ext cx="4684680" cy="24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kkurat-Bold"/>
                <a:ea typeface="ＭＳ Ｐゴシック"/>
              </a:rPr>
              <a:t>Healthy Systems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kkurat-Bold"/>
                <a:ea typeface="ＭＳ Ｐゴシック"/>
              </a:rPr>
              <a:t>Re-Genera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2"/>
          <p:cNvSpPr/>
          <p:nvPr/>
        </p:nvSpPr>
        <p:spPr>
          <a:xfrm>
            <a:off x="-3659040" y="322200"/>
            <a:ext cx="2085840" cy="265428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gger Title Te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2" descr=""/>
          <p:cNvPicPr/>
          <p:nvPr/>
        </p:nvPicPr>
        <p:blipFill>
          <a:blip r:embed="rId1"/>
          <a:stretch/>
        </p:blipFill>
        <p:spPr>
          <a:xfrm rot="20400000">
            <a:off x="-128160" y="3792600"/>
            <a:ext cx="3857400" cy="1950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2" descr=""/>
          <p:cNvPicPr/>
          <p:nvPr/>
        </p:nvPicPr>
        <p:blipFill>
          <a:blip r:embed="rId2"/>
          <a:stretch/>
        </p:blipFill>
        <p:spPr>
          <a:xfrm rot="20400000">
            <a:off x="2867040" y="2690640"/>
            <a:ext cx="3859200" cy="1952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2" descr=""/>
          <p:cNvPicPr/>
          <p:nvPr/>
        </p:nvPicPr>
        <p:blipFill>
          <a:blip r:embed="rId3"/>
          <a:stretch/>
        </p:blipFill>
        <p:spPr>
          <a:xfrm rot="20400000">
            <a:off x="5872320" y="1585440"/>
            <a:ext cx="3857400" cy="205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33160" y="322200"/>
            <a:ext cx="4684680" cy="24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kkurat-Bold"/>
                <a:ea typeface="ＭＳ Ｐゴシック"/>
              </a:rPr>
              <a:t>Education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kkurat-Bold"/>
                <a:ea typeface="ＭＳ Ｐゴシック"/>
              </a:rPr>
              <a:t>Does N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2"/>
          <p:cNvSpPr/>
          <p:nvPr/>
        </p:nvSpPr>
        <p:spPr>
          <a:xfrm>
            <a:off x="-3659040" y="322200"/>
            <a:ext cx="2085840" cy="2654280"/>
          </a:xfrm>
          <a:prstGeom prst="rect">
            <a:avLst/>
          </a:prstGeom>
          <a:gradFill rotWithShape="0">
            <a:gsLst>
              <a:gs pos="0">
                <a:srgbClr val="3f80cd"/>
              </a:gs>
              <a:gs pos="100000">
                <a:srgbClr val="9bc1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igger Title Tex 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"/>
          <p:cNvPicPr/>
          <p:nvPr/>
        </p:nvPicPr>
        <p:blipFill>
          <a:blip r:embed="rId1"/>
          <a:stretch/>
        </p:blipFill>
        <p:spPr>
          <a:xfrm>
            <a:off x="-128520" y="3792600"/>
            <a:ext cx="3857400" cy="195084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2" descr=""/>
          <p:cNvPicPr/>
          <p:nvPr/>
        </p:nvPicPr>
        <p:blipFill>
          <a:blip r:embed="rId2"/>
          <a:stretch/>
        </p:blipFill>
        <p:spPr>
          <a:xfrm>
            <a:off x="3056040" y="3792600"/>
            <a:ext cx="3859200" cy="195084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2" descr=""/>
          <p:cNvPicPr/>
          <p:nvPr/>
        </p:nvPicPr>
        <p:blipFill>
          <a:blip r:embed="rId3"/>
          <a:stretch/>
        </p:blipFill>
        <p:spPr>
          <a:xfrm>
            <a:off x="6240600" y="3792600"/>
            <a:ext cx="3859200" cy="195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Sigmund_Curve_2.ai"/>
          <p:cNvPicPr/>
          <p:nvPr/>
        </p:nvPicPr>
        <p:blipFill>
          <a:blip r:embed="rId1"/>
          <a:stretch/>
        </p:blipFill>
        <p:spPr>
          <a:xfrm rot="21300000">
            <a:off x="-1321920" y="-1770120"/>
            <a:ext cx="15006600" cy="1125540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굴림"/>
              </a:rPr>
              <a:t>Nam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Box 8"/>
          <p:cNvSpPr/>
          <p:nvPr/>
        </p:nvSpPr>
        <p:spPr>
          <a:xfrm>
            <a:off x="2514600" y="4645080"/>
            <a:ext cx="4925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Identif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Pione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Lea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7" descr="Sigmund_Curve_3.ai"/>
          <p:cNvPicPr/>
          <p:nvPr/>
        </p:nvPicPr>
        <p:blipFill>
          <a:blip r:embed="rId1"/>
          <a:stretch/>
        </p:blipFill>
        <p:spPr>
          <a:xfrm rot="21300000">
            <a:off x="-905040" y="-1007640"/>
            <a:ext cx="11588760" cy="8691480"/>
          </a:xfrm>
          <a:prstGeom prst="rect">
            <a:avLst/>
          </a:prstGeom>
          <a:ln w="0">
            <a:noFill/>
          </a:ln>
        </p:spPr>
      </p:pic>
      <p:sp>
        <p:nvSpPr>
          <p:cNvPr id="540" name="TextBox 9"/>
          <p:cNvSpPr/>
          <p:nvPr/>
        </p:nvSpPr>
        <p:spPr>
          <a:xfrm>
            <a:off x="2266920" y="5003640"/>
            <a:ext cx="472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Create Networks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kurat-Light"/>
                <a:ea typeface="Akkurat-Light"/>
              </a:rPr>
              <a:t>Pioneering Lea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굴림"/>
              </a:rPr>
              <a:t>Connec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1T18:51:01Z</dcterms:created>
  <dc:creator>Richard Tyson</dc:creator>
  <dc:description/>
  <dc:language>en-US</dc:language>
  <cp:lastModifiedBy>xfddxsfrf'</cp:lastModifiedBy>
  <cp:lastPrinted>2010-10-13T13:35:01Z</cp:lastPrinted>
  <dcterms:modified xsi:type="dcterms:W3CDTF">2011-09-26T21:47:37Z</dcterms:modified>
  <cp:revision>113</cp:revision>
  <dc:subject/>
  <dc:title>Slide 1</dc:title>
</cp:coreProperties>
</file>